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E786-2054-4ABB-B3FC-65ECA439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FD3E-81AD-4F4E-B87D-52640613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40A85-D272-46DE-A3EA-836706DF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F340B-2CF3-4653-9069-7C0162DD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71B45-90F8-4881-8EC2-FD3EACC5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67F46-5B43-416E-8486-2011C226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39327-1C6F-4F02-9CBD-DE025278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ACD75-8AEF-42C6-B46A-140D3D35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0D1A7-13AA-4210-B17D-BB253D65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8ADF9-A857-48CB-928E-2877ED39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95958-252A-4A53-85D2-01D61C9A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6A14E-2DBD-48C8-8439-B32324EC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7D11-8B1D-4CB1-85A3-3E963DF4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0D0B0-31C1-412C-99A3-F0FC671C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44733-67B6-4A01-A4C3-6580DAC1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DC8E6-3FA9-47B1-8791-9EF32AF8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F1024-710B-428D-8578-2BFC13E0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C26E0-DE17-4148-81B4-D42C51C2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5363D-0655-415C-ACBB-7E536537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9F59C-C100-42E1-B312-4E60BF80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3B3D4-DB2A-41DE-B50D-944D6BB8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2A858-3B8C-4E05-BCEE-54A14347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AF0BE-71FC-45D4-B81C-62B722EF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959F-6F4B-4441-BB85-BFA01E76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E6E7E-02D4-4A8E-9E57-1031E989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1CF85-4D40-43AE-95BD-3CE9975F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4CB69-D981-4C5B-A3A4-51848F9B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85293-33E9-4F04-BDDB-52C5D99E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5D0B2-85CB-4252-8CDB-F13606F1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4B963-AF71-499C-9531-190A4AB4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C38BF-1E67-4ECC-BD79-C6AC88F7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82BA7-FE36-467B-BFBC-6C8BA36F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4566A-DBD8-464A-B9CE-79C8EC97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6F2B6-682C-4FDB-8C7D-58DF3AB5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D56C-B378-48DC-B5BD-77BE4F42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59931-E695-4D39-B350-E829C89A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5FC00-21D9-4CF0-9868-554B9825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CB9AA-BB22-4920-A890-E3DD30A9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D3177-84E1-4728-A870-1B928F1E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C3227-BB16-4B2F-9AB6-4456CB5F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9C01C-C67B-4C72-8DB5-92D94F09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DED1B-B71A-4E60-AC52-C97DE909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F5AA8-D0A5-4D79-9809-416B1AEA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A366E-AB5E-429C-81B0-D410E6FD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DDA66-E4CC-4890-A002-4154F12F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1D4B-363F-42FE-858A-6ED0EDDE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68608-B470-4F1E-B5F2-D8AF1481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EBA2C-497E-4E39-9412-2B7C98C6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DF85E-469A-4D57-A0BE-2FCF145A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C4B3F-2F07-4BF3-ACD2-32E02F24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E6963-93B4-4FA9-BD4A-551F7BE4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B48EF5-1629-4227-B0FD-88256006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55BEBE-96D1-4C10-B758-C35DECD2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6CB07E-B55B-42E8-BDA1-730D9C24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D06FC1-C6A6-4707-B3CA-9AF4FCF9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4B851A-A424-419F-A182-A34B1382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9ED3-542B-435D-ACB8-71E2855F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9D7ABC-F931-4B0F-919A-FE6C009C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1E0EA5-F47A-423F-95D0-620CAC81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825EB0-5C01-48AD-B434-1E848834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32B376-0B4E-46B7-B675-0B80441B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92AB95-74D2-4433-ACF8-53CAB73A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28245C-FC6E-4604-B2C8-FE4B714B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F41B41-99B5-483D-B988-B082DA98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7AC7CB-7020-45D8-9640-1BBE29F1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B480FF-4DC5-4E86-B3AB-43E8FB8B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B3DE3D-711D-4291-8BD3-EB1D67C2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CB57-F485-4BFC-BAF1-C09F2340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7F2B20-7F13-4C24-B7CE-320D13D2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72F5E7-003F-4A22-BE90-088B13F6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F8C8C8-D521-4D1D-AF40-71F5EFB9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5CEDD4-7ABD-4BCF-81C4-F2FD7B76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6E8BE5-F401-4407-A683-BB13C639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8F6527-ACA7-4141-9209-B19D2A7F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3DCFE1-40A4-41BF-AC68-4CBA5C0D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4403D3-9336-4DA4-A639-CC46AB06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628977-9AB4-4A64-84FB-FB31BCC2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646B4C-9B9F-4B66-9474-CB9681FC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32D7-63D3-43B8-A114-DCCDA024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6E1846-A4D8-4D14-BE7C-7348FF98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10028C-AB35-4A55-9EFE-643F4DEE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37A60C-9830-4950-82C7-E71700E6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09BD2B-CB22-41C1-89CC-B409ED06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2CC3B1-859C-4315-A27B-6A14B191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7BD913-9B06-4A37-AE80-4B4D0B57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ED1274-5FE7-4876-B9B1-5D1798EA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0622A0-D2F9-4A87-8778-C0A6202B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8AE114-D5D6-45E7-A1BD-680CE2FA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19DA04-FC06-4F47-B0B2-677F8CD7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2434-2055-43F0-9937-3883D00B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807744-F08A-46ED-A301-B39E883B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BE1A84-6AAD-4743-BC14-04F1A351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067D37-6984-4786-BF04-B0A57C73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01051E-CC9B-44A6-9A4E-7335EC55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59B35C-DC7C-40D1-B297-4E2F73B9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FED7C3-6F41-4E67-856F-C577A922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904150-8ADC-40EF-952F-4133201B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5511F5-AFA7-4D7D-B1B9-3854F634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1A56CC-6B16-4CB7-A8CA-4E307714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41A576-C03F-4BA8-B4BD-3B62CC75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D1F2-D626-47D2-9FF8-9EEAC31C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D2F69F-B6C4-41A9-991F-4A7B969D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44F045-B74D-4D00-9972-2B34F775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65519C-6A43-4B56-99FB-B4347184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D9353A-D63C-45E4-882F-4B322949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DE1ACB-4FFD-4B8F-ADE1-1ADA6663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0A830A-658C-4964-B9FF-4EBB658E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8D95B9-B884-47AB-B324-6341D213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055D3E-E9F2-4556-88B8-DB4D0442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FF035C-0BD3-4A71-B3F5-6D7E87E3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B5FA93-4BE4-474C-B2BA-7DB5E433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B12D-5189-4B6A-9740-799FF472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AC63-28AB-4577-910A-524777F3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76D66C-E6C6-46E3-8995-0FB3943B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A3D13C-D827-438E-AD5C-AE88EFB4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B442E9-41C8-4EB0-AEEA-F8D49A5A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3C3342-B28E-452B-84BE-2500DF26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DF099B-1414-4E1A-874E-787DDF94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D51168-EF2D-49FF-ABB2-AA0E27FC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ACF590-1044-41E0-A772-6F95DFD7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95D0F5-4FE9-473D-AE56-621E8499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6A752F-652D-4625-8132-5D8790AC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37171F-69ED-446D-B832-3E792184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3804-CAA1-4C40-B494-B915DF09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F995DA-2B3C-451A-87C5-A4F05576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5159CA-9562-48FA-B5E1-9E9FE4A7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F91707-E5DC-4BF8-9BEC-93063EC9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65EDEA-0248-4B6E-87AB-44DA5BDE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D861ED-922A-42B2-A15B-5160FF19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510E54-854B-4ADA-866A-3758CD44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E625F7-8ADF-4A9C-8BEB-447ED74D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29B42F-C648-43AC-8A7E-A3A3B27D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35D84E-D704-4AF4-8649-8D579700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2F3720-DBC4-4DAF-A677-6D78F90D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FD32-1743-4676-9898-58D26A3B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F2A852-3FB9-4816-9530-59B78180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EE3B42-F1F4-4840-87D0-57E7BCDF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AB3A33-F29E-47E5-9BFC-79157D8C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65B327-6F5B-487D-A63F-16566A88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C696E6-2544-44E7-A727-B40379A6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C218C5-9962-4679-9AB0-B6E2FC5E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208847-3374-4707-B058-048C6D26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922459-B93E-4312-AF60-625BBD4F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993D25-B9AA-4AE0-BE46-36A3EDE9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433DC0-7526-4E29-8627-ABCEF6A8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C78A-12EF-4C0E-A491-D8AE800C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4E6069-9A07-4FA1-9EE3-DB77C5CF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D914A9-4466-4067-A4CC-E5880826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075F6C-2086-4CFE-9B70-38DE8327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CAB000-4EED-4CE0-9671-B7572320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C136B9-7D15-414F-828B-A63766E9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BCB8F8-F31C-4CD1-9985-9AFBCF9F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125A4C-77D3-45B1-A534-B39803AD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61884D-88C5-49D3-B1A5-ED34F936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692783-CC18-43EF-9713-0B702732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58871C-0E7B-4A0A-92F9-E06E9C27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405A-1853-4116-8D9E-20543166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EB44BA-4326-4CA2-BE43-23DC755F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D84D1D-5E32-4534-8210-390AB426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745777-C3CF-41B6-AAD2-AE8D42EF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C6FCC9-F67F-4536-A500-84C4566B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7D7917-4E15-42E4-A1FE-D0662863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396E2F-ECC6-4688-876C-51D9DEAB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8FE7BB-552D-4271-AC72-DBB7C739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C19AC3-8657-4872-BD0B-F32DB9F1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273D61-3D5C-44A5-848C-86E197AF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45CC92-8A09-44E0-8D6F-CEA8743C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FA96E-1CA1-44B0-9ECB-CB2D1EC6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9E2363-047D-4CA8-BFD5-D6C266AE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90CA94-1970-47E0-924D-DE632A43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BBD9F4-B6D5-4C2C-A48D-5235F185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51B9E0-A8E4-4A31-A30C-E9108AC9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A9A430-73EF-4AC7-9B12-DEE0F07F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5631E3-5DF2-4B00-94A8-91928909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9E3E4A-7520-45B8-9141-A6ACED4F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8A4912-A9AA-4EA7-9DE1-CFDDFFE6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81C963-DB87-470D-9671-91AE6846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C661B5-355E-46A3-A697-15AA0823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82AE7-C7CF-4214-80A6-A0F21C8F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8405D4-27D3-4283-B49A-4FD193F4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8F637E-3F99-457B-A582-067BEA65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DC08A4-A73C-4BA0-969B-5B997C02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EFF2FC-EFB0-47CE-A567-E702E1BE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FDEB39-792E-4350-8644-033D6D19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59E28-2E85-4E98-B0F9-C667B8FD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41B28-716C-4FBE-99E3-CC99A622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E46ED-5BAA-4C83-A26B-4D04C914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D01-8123-4B65-BCFC-0A705857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A2CE9-5C62-4D2C-86C5-86D28560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05F35-644A-430C-8817-D28D201A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688D9-960E-42C4-B16A-446A28BC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ECA9A-6903-4228-A21C-9A22F7EE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5582D-4C41-4FB1-B738-24744FFA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12622-E6E9-4995-820F-DBC61942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6FE60-EE56-4C4E-8F61-3C03A7E6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B03EF-CD03-4702-BA08-14374D28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864DB-739B-4C18-9944-B2FCD62B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612BE-43DF-47BF-81E8-9733CC6F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63F1-3717-4EA3-8F36-92121F9E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992FC-9D60-4C34-8CB0-C79C5704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01EFE-AB23-4601-A1E3-43B88064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1AFB6-B9F8-4B16-B28C-8054A990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B03A7-D358-4780-A608-82054A97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93DCF-D903-4DCB-A6C7-E71E87E4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73FB4-B961-4010-B5E1-C4BD60CF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5A586-92BE-4F3E-B7F8-B1A82020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D8A62-D6F8-4D0D-B12E-F11B8146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584DE-653E-4B78-B742-A63B5EE7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932A2-56E2-4C1F-8D0E-6D2B1A1F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DF9B-CE85-4BF0-9BB5-50C2FB99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2393F-C215-4C54-8421-09F84E9E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FD1AC-B07F-480F-ACF4-F4CB2D69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246C6-177D-418C-A442-85D25264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F8082-5496-4E5F-B947-A78E9CEC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FC2EF-7BAC-4376-9256-B3D01EF3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7D33D-27AF-44D0-945E-2CE70FFC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BD3C9-D971-4314-9772-D3BBCDF9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11DE4-2CCD-46DB-A25D-49BF2884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B1003-54D1-4498-91AF-963FCB41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E7662-4E1D-4B19-BE9B-438886A4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ED0C-F4DB-4903-80F5-D1C86A08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FA1D7-8104-44FA-9141-3B0F32C5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556829-65BD-42D0-B583-F9B11FF4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4D4DE8-3B69-4D60-9B6C-72317891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665C67-8567-461D-9230-25C88F2F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685F76-1285-425F-9911-BDCCA340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7447FB-7834-4F49-89B8-87C497D8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AA7DE7-E9A9-49C9-88F5-D412F335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65A54D-8402-4853-A594-6F99636D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AE40B1-19E2-42BC-BA6D-759C6761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58649B-D6CA-4617-973A-22FE8394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984F-296C-4F5C-8298-017029C1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A6788D-23CB-4679-B401-8D3C0FEC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D6089D-8851-4F69-A3F4-162F4551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4FD6D9-288E-4845-99B0-FC53FA03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7D37F-3CD7-448B-BED2-04F522B2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E8351-D66E-452D-826A-D7B4F209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259B3-DD8E-4652-87D1-86C9EF23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EC552-4A47-44C1-95AA-EBC711C7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F4BF6-9F5B-48A5-82E6-C22E39AB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1392B-B69A-48E2-B85D-1B9C70C1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68367-FEDD-4E00-B79A-A586E96D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82D8-B002-4D96-88E3-C3C1A868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BEBF1-769E-4AB5-8287-AA09964A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4151C-ED35-4B37-BF4E-371B25D8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98AD3-F53A-461C-927F-E174F7FF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79780-3E08-45B6-B138-0B401D69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9C509-6760-4173-A65E-EEA129E7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D0E3B-4B3E-420E-A334-293B39B8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E431D-1EBC-46C3-8E9A-0C9445A7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25C4B-67CC-487D-83CB-FB3B0FC3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6885A-32C1-484D-B921-85B40B0F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EC219-A5B0-48C4-BB71-E4C01526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3D19-9A06-4877-A9F4-D799EF69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D3EAF-46A6-40BA-B3A2-3CF232EA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9EE0B-0331-4016-86DA-196087E9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6CBAA-4906-47C5-A159-9212C3A3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A80B2-0079-4EE1-B8A0-8B3CBBFB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D039B-BEAD-4896-B29D-573457D5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F153D-B720-4BA2-8168-B5D433DF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ED5AB-4D1D-4A7C-8B53-2DCF62D9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0D24D-4A13-4684-B934-65A80852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0DB53-06F3-40D0-A4C1-37285B31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187E4-7337-4086-94B9-CA63C133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A5C6-AE28-40B7-8361-9D1396E7D5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图片 9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4755-4184-46EA-82E7-776B89ACFA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9817-9F10-473D-BA0E-0DCACCC02A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106"/>
          <p:cNvSpPr/>
          <p:nvPr/>
        </p:nvSpPr>
        <p:spPr>
          <a:xfrm>
            <a:off x="2527200" y="63828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106"/>
          <p:cNvSpPr/>
          <p:nvPr/>
        </p:nvSpPr>
        <p:spPr>
          <a:xfrm>
            <a:off x="1692360" y="1231920"/>
            <a:ext cx="952560" cy="5652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图片 90" descr=""/>
          <p:cNvPicPr/>
          <p:nvPr/>
        </p:nvPicPr>
        <p:blipFill>
          <a:blip r:embed="rId2"/>
          <a:stretch/>
        </p:blipFill>
        <p:spPr>
          <a:xfrm>
            <a:off x="417600" y="257040"/>
            <a:ext cx="1298520" cy="1635120"/>
          </a:xfrm>
          <a:prstGeom prst="rect">
            <a:avLst/>
          </a:prstGeom>
          <a:ln w="0">
            <a:noFill/>
          </a:ln>
        </p:spPr>
      </p:pic>
      <p:pic>
        <p:nvPicPr>
          <p:cNvPr id="436" name="图片 92" descr=""/>
          <p:cNvPicPr/>
          <p:nvPr/>
        </p:nvPicPr>
        <p:blipFill>
          <a:blip r:embed="rId3"/>
          <a:stretch/>
        </p:blipFill>
        <p:spPr>
          <a:xfrm>
            <a:off x="0" y="5214960"/>
            <a:ext cx="9144000" cy="1643040"/>
          </a:xfrm>
          <a:prstGeom prst="rect">
            <a:avLst/>
          </a:prstGeom>
          <a:ln w="0">
            <a:noFill/>
          </a:ln>
        </p:spPr>
      </p:pic>
      <p:pic>
        <p:nvPicPr>
          <p:cNvPr id="437" name="图片 94" descr=""/>
          <p:cNvPicPr/>
          <p:nvPr/>
        </p:nvPicPr>
        <p:blipFill>
          <a:blip r:embed="rId4"/>
          <a:stretch/>
        </p:blipFill>
        <p:spPr>
          <a:xfrm>
            <a:off x="7278840" y="4546440"/>
            <a:ext cx="1842840" cy="2262240"/>
          </a:xfrm>
          <a:prstGeom prst="rect">
            <a:avLst/>
          </a:prstGeom>
          <a:ln w="0">
            <a:noFill/>
          </a:ln>
        </p:spPr>
      </p:pic>
      <p:pic>
        <p:nvPicPr>
          <p:cNvPr id="438" name="图片 96" descr=""/>
          <p:cNvPicPr/>
          <p:nvPr/>
        </p:nvPicPr>
        <p:blipFill>
          <a:blip r:embed="rId5"/>
          <a:stretch/>
        </p:blipFill>
        <p:spPr>
          <a:xfrm>
            <a:off x="8134200" y="3645000"/>
            <a:ext cx="777960" cy="104760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32CA-A39F-413A-92DD-9F66AEB1C9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A1DC-1B8E-499A-A857-5478A156C0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图片 7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78DF-656D-4484-918E-E42F66E118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FF4A-A9EA-4AE0-B754-974B907736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图片 7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E872-F0B4-42F9-AE58-3BAD489863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37C3-8530-47B9-B1E9-2FB0ABD3E1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图片 5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B99E-F888-46B4-BF2C-DC4DF0FE3E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C496-A8B8-4DE3-99DE-FB593839A0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组合 5"/>
          <p:cNvGrpSpPr/>
          <p:nvPr/>
        </p:nvGrpSpPr>
        <p:grpSpPr>
          <a:xfrm>
            <a:off x="-781200" y="3821040"/>
            <a:ext cx="10780920" cy="3041640"/>
            <a:chOff x="-781200" y="3821040"/>
            <a:chExt cx="10780920" cy="3041640"/>
          </a:xfrm>
        </p:grpSpPr>
        <p:sp>
          <p:nvSpPr>
            <p:cNvPr id="611" name="任意多边形: 形状 6"/>
            <p:cNvSpPr/>
            <p:nvPr/>
          </p:nvSpPr>
          <p:spPr>
            <a:xfrm>
              <a:off x="-781200" y="3821040"/>
              <a:ext cx="10780920" cy="3041640"/>
            </a:xfrm>
            <a:custGeom>
              <a:avLst/>
              <a:gdLst/>
              <a:ahLst/>
              <a:rect l="l" t="t" r="r" b="b"/>
              <a:pathLst>
                <a:path w="16099157" h="4574668">
                  <a:moveTo>
                    <a:pt x="0" y="4574667"/>
                  </a:moveTo>
                  <a:cubicBezTo>
                    <a:pt x="3044190" y="1857883"/>
                    <a:pt x="9254618" y="0"/>
                    <a:pt x="16099156" y="4574667"/>
                  </a:cubicBezTo>
                  <a:close/>
                </a:path>
              </a:pathLst>
            </a:custGeom>
            <a:solidFill>
              <a:srgbClr val="e77d5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任意多边形: 形状 7"/>
            <p:cNvSpPr/>
            <p:nvPr/>
          </p:nvSpPr>
          <p:spPr>
            <a:xfrm>
              <a:off x="-79200" y="4417560"/>
              <a:ext cx="9132840" cy="2445120"/>
            </a:xfrm>
            <a:custGeom>
              <a:avLst/>
              <a:gdLst/>
              <a:ahLst/>
              <a:rect l="l" t="t" r="r" b="b"/>
              <a:pathLst>
                <a:path w="13637642" h="3677413">
                  <a:moveTo>
                    <a:pt x="0" y="3677412"/>
                  </a:moveTo>
                  <a:cubicBezTo>
                    <a:pt x="2578735" y="1493520"/>
                    <a:pt x="7839583" y="0"/>
                    <a:pt x="13637641" y="3677412"/>
                  </a:cubicBezTo>
                  <a:close/>
                </a:path>
              </a:pathLst>
            </a:custGeom>
            <a:solidFill>
              <a:srgbClr val="919d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: 形状 8"/>
            <p:cNvSpPr/>
            <p:nvPr/>
          </p:nvSpPr>
          <p:spPr>
            <a:xfrm>
              <a:off x="898200" y="4957560"/>
              <a:ext cx="7160040" cy="1905120"/>
            </a:xfrm>
            <a:custGeom>
              <a:avLst/>
              <a:gdLst/>
              <a:ahLst/>
              <a:rect l="l" t="t" r="r" b="b"/>
              <a:pathLst>
                <a:path w="10692004" h="2865502">
                  <a:moveTo>
                    <a:pt x="0" y="2865501"/>
                  </a:moveTo>
                  <a:cubicBezTo>
                    <a:pt x="2021713" y="1163701"/>
                    <a:pt x="6146292" y="0"/>
                    <a:pt x="10692003" y="2865501"/>
                  </a:cubicBezTo>
                  <a:close/>
                </a:path>
              </a:pathLst>
            </a:custGeom>
            <a:solidFill>
              <a:srgbClr val="c66b6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: 形状 9"/>
            <p:cNvSpPr/>
            <p:nvPr/>
          </p:nvSpPr>
          <p:spPr>
            <a:xfrm>
              <a:off x="1163880" y="5419440"/>
              <a:ext cx="6534000" cy="1428840"/>
            </a:xfrm>
            <a:custGeom>
              <a:avLst/>
              <a:gdLst/>
              <a:ahLst/>
              <a:rect l="l" t="t" r="r" b="b"/>
              <a:pathLst>
                <a:path w="9757284" h="2148841">
                  <a:moveTo>
                    <a:pt x="0" y="2148840"/>
                  </a:moveTo>
                  <a:cubicBezTo>
                    <a:pt x="1662303" y="1125728"/>
                    <a:pt x="4767707" y="0"/>
                    <a:pt x="9757283" y="2148840"/>
                  </a:cubicBezTo>
                  <a:close/>
                </a:path>
              </a:pathLst>
            </a:custGeom>
            <a:solidFill>
              <a:srgbClr val="ebe46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: 形状 10"/>
            <p:cNvSpPr/>
            <p:nvPr/>
          </p:nvSpPr>
          <p:spPr>
            <a:xfrm>
              <a:off x="2058480" y="5843880"/>
              <a:ext cx="4857840" cy="1004040"/>
            </a:xfrm>
            <a:custGeom>
              <a:avLst/>
              <a:gdLst/>
              <a:ahLst/>
              <a:rect l="l" t="t" r="r" b="b"/>
              <a:pathLst>
                <a:path w="7253987" h="1510158">
                  <a:moveTo>
                    <a:pt x="0" y="1510157"/>
                  </a:moveTo>
                  <a:cubicBezTo>
                    <a:pt x="1235837" y="791083"/>
                    <a:pt x="3544443" y="0"/>
                    <a:pt x="7253986" y="1510157"/>
                  </a:cubicBezTo>
                  <a:close/>
                </a:path>
              </a:pathLst>
            </a:custGeom>
            <a:solidFill>
              <a:srgbClr val="7fc26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11"/>
            <p:cNvSpPr/>
            <p:nvPr/>
          </p:nvSpPr>
          <p:spPr>
            <a:xfrm>
              <a:off x="3077280" y="6378840"/>
              <a:ext cx="2944440" cy="469440"/>
            </a:xfrm>
            <a:custGeom>
              <a:avLst/>
              <a:gdLst/>
              <a:ahLst/>
              <a:rect l="l" t="t" r="r" b="b"/>
              <a:pathLst>
                <a:path w="4396868" h="705994">
                  <a:moveTo>
                    <a:pt x="0" y="705993"/>
                  </a:moveTo>
                  <a:cubicBezTo>
                    <a:pt x="1465580" y="207518"/>
                    <a:pt x="2581021" y="0"/>
                    <a:pt x="4396867" y="705993"/>
                  </a:cubicBezTo>
                  <a:close/>
                </a:path>
              </a:pathLst>
            </a:custGeom>
            <a:solidFill>
              <a:srgbClr val="c284b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组合 12"/>
          <p:cNvGrpSpPr/>
          <p:nvPr/>
        </p:nvGrpSpPr>
        <p:grpSpPr>
          <a:xfrm>
            <a:off x="5151600" y="1397160"/>
            <a:ext cx="3411360" cy="4392360"/>
            <a:chOff x="5151600" y="1397160"/>
            <a:chExt cx="3411360" cy="4392360"/>
          </a:xfrm>
        </p:grpSpPr>
        <p:grpSp>
          <p:nvGrpSpPr>
            <p:cNvPr id="618" name="组合 13"/>
            <p:cNvGrpSpPr/>
            <p:nvPr/>
          </p:nvGrpSpPr>
          <p:grpSpPr>
            <a:xfrm>
              <a:off x="6642720" y="1397160"/>
              <a:ext cx="1920240" cy="4392360"/>
              <a:chOff x="6642720" y="1397160"/>
              <a:chExt cx="1920240" cy="4392360"/>
            </a:xfrm>
          </p:grpSpPr>
          <p:sp>
            <p:nvSpPr>
              <p:cNvPr id="619" name="任意多边形: 形状 44"/>
              <p:cNvSpPr/>
              <p:nvPr/>
            </p:nvSpPr>
            <p:spPr>
              <a:xfrm>
                <a:off x="7778160" y="4055760"/>
                <a:ext cx="293760" cy="1731960"/>
              </a:xfrm>
              <a:custGeom>
                <a:avLst/>
                <a:gdLst/>
                <a:ahLst/>
                <a:rect l="l" t="t" r="r" b="b"/>
                <a:pathLst>
                  <a:path w="552831" h="2443226">
                    <a:moveTo>
                      <a:pt x="337312" y="84328"/>
                    </a:moveTo>
                    <a:lnTo>
                      <a:pt x="552831" y="2443226"/>
                    </a:lnTo>
                    <a:lnTo>
                      <a:pt x="285369" y="2412365"/>
                    </a:lnTo>
                    <a:lnTo>
                      <a:pt x="0" y="0"/>
                    </a:lnTo>
                    <a:lnTo>
                      <a:pt x="337312" y="84328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任意多边形: 形状 45"/>
              <p:cNvSpPr/>
              <p:nvPr/>
            </p:nvSpPr>
            <p:spPr>
              <a:xfrm>
                <a:off x="7949520" y="4129920"/>
                <a:ext cx="172080" cy="1659600"/>
              </a:xfrm>
              <a:custGeom>
                <a:avLst/>
                <a:gdLst/>
                <a:ahLst/>
                <a:rect l="l" t="t" r="r" b="b"/>
                <a:pathLst>
                  <a:path w="324231" h="2341118">
                    <a:moveTo>
                      <a:pt x="324231" y="2290064"/>
                    </a:moveTo>
                    <a:lnTo>
                      <a:pt x="233426" y="2341118"/>
                    </a:lnTo>
                    <a:lnTo>
                      <a:pt x="0" y="0"/>
                    </a:lnTo>
                    <a:lnTo>
                      <a:pt x="95250" y="19558"/>
                    </a:lnTo>
                    <a:lnTo>
                      <a:pt x="324231" y="2290064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任意多边形: 形状 46"/>
              <p:cNvSpPr/>
              <p:nvPr/>
            </p:nvSpPr>
            <p:spPr>
              <a:xfrm>
                <a:off x="7783560" y="1410840"/>
                <a:ext cx="96480" cy="464040"/>
              </a:xfrm>
              <a:custGeom>
                <a:avLst/>
                <a:gdLst/>
                <a:ahLst/>
                <a:rect l="l" t="t" r="r" b="b"/>
                <a:pathLst>
                  <a:path w="181610" h="655066">
                    <a:moveTo>
                      <a:pt x="181610" y="58420"/>
                    </a:moveTo>
                    <a:lnTo>
                      <a:pt x="90805" y="0"/>
                    </a:lnTo>
                    <a:lnTo>
                      <a:pt x="0" y="645287"/>
                    </a:lnTo>
                    <a:lnTo>
                      <a:pt x="100584" y="655066"/>
                    </a:lnTo>
                    <a:lnTo>
                      <a:pt x="181610" y="58420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任意多边形: 形状 47"/>
              <p:cNvSpPr/>
              <p:nvPr/>
            </p:nvSpPr>
            <p:spPr>
              <a:xfrm>
                <a:off x="6642720" y="4001400"/>
                <a:ext cx="592920" cy="1553760"/>
              </a:xfrm>
              <a:custGeom>
                <a:avLst/>
                <a:gdLst/>
                <a:ahLst/>
                <a:rect l="l" t="t" r="r" b="b"/>
                <a:pathLst>
                  <a:path w="1115315" h="2191894">
                    <a:moveTo>
                      <a:pt x="793242" y="0"/>
                    </a:moveTo>
                    <a:lnTo>
                      <a:pt x="0" y="2055749"/>
                    </a:lnTo>
                    <a:lnTo>
                      <a:pt x="285369" y="2191893"/>
                    </a:lnTo>
                    <a:lnTo>
                      <a:pt x="1067181" y="110236"/>
                    </a:lnTo>
                    <a:lnTo>
                      <a:pt x="1115314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任意多边形: 形状 48"/>
              <p:cNvSpPr/>
              <p:nvPr/>
            </p:nvSpPr>
            <p:spPr>
              <a:xfrm>
                <a:off x="7999920" y="4143960"/>
                <a:ext cx="331920" cy="1107720"/>
              </a:xfrm>
              <a:custGeom>
                <a:avLst/>
                <a:gdLst/>
                <a:ahLst/>
                <a:rect l="l" t="t" r="r" b="b"/>
                <a:pathLst>
                  <a:path w="624587" h="1562863">
                    <a:moveTo>
                      <a:pt x="371602" y="1562862"/>
                    </a:moveTo>
                    <a:lnTo>
                      <a:pt x="0" y="0"/>
                    </a:lnTo>
                    <a:lnTo>
                      <a:pt x="228981" y="26035"/>
                    </a:lnTo>
                    <a:lnTo>
                      <a:pt x="624586" y="1562862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任意多边形: 形状 49"/>
              <p:cNvSpPr/>
              <p:nvPr/>
            </p:nvSpPr>
            <p:spPr>
              <a:xfrm>
                <a:off x="8121960" y="4161960"/>
                <a:ext cx="254880" cy="1089720"/>
              </a:xfrm>
              <a:custGeom>
                <a:avLst/>
                <a:gdLst/>
                <a:ahLst/>
                <a:rect l="l" t="t" r="r" b="b"/>
                <a:pathLst>
                  <a:path w="479806" h="1537335">
                    <a:moveTo>
                      <a:pt x="479806" y="1476375"/>
                    </a:moveTo>
                    <a:lnTo>
                      <a:pt x="395605" y="1537335"/>
                    </a:lnTo>
                    <a:lnTo>
                      <a:pt x="0" y="508"/>
                    </a:lnTo>
                    <a:lnTo>
                      <a:pt x="83312" y="0"/>
                    </a:lnTo>
                    <a:lnTo>
                      <a:pt x="479806" y="1476375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任意多边形: 形状 50"/>
              <p:cNvSpPr/>
              <p:nvPr/>
            </p:nvSpPr>
            <p:spPr>
              <a:xfrm>
                <a:off x="8332200" y="2079720"/>
                <a:ext cx="230760" cy="2114640"/>
              </a:xfrm>
              <a:custGeom>
                <a:avLst/>
                <a:gdLst/>
                <a:ahLst/>
                <a:rect l="l" t="t" r="r" b="b"/>
                <a:pathLst>
                  <a:path w="434467" h="2983103">
                    <a:moveTo>
                      <a:pt x="434467" y="58293"/>
                    </a:moveTo>
                    <a:lnTo>
                      <a:pt x="343662" y="0"/>
                    </a:lnTo>
                    <a:lnTo>
                      <a:pt x="0" y="2983103"/>
                    </a:lnTo>
                    <a:lnTo>
                      <a:pt x="77724" y="2957195"/>
                    </a:lnTo>
                    <a:lnTo>
                      <a:pt x="434467" y="58293"/>
                    </a:lnTo>
                  </a:path>
                </a:pathLst>
              </a:custGeom>
              <a:solidFill>
                <a:srgbClr val="b27d4d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任意多边形: 形状 51"/>
              <p:cNvSpPr/>
              <p:nvPr/>
            </p:nvSpPr>
            <p:spPr>
              <a:xfrm>
                <a:off x="7500960" y="1854360"/>
                <a:ext cx="358560" cy="217800"/>
              </a:xfrm>
              <a:custGeom>
                <a:avLst/>
                <a:gdLst/>
                <a:ahLst/>
                <a:rect l="l" t="t" r="r" b="b"/>
                <a:pathLst>
                  <a:path w="674497" h="307467">
                    <a:moveTo>
                      <a:pt x="57277" y="0"/>
                    </a:moveTo>
                    <a:lnTo>
                      <a:pt x="0" y="300990"/>
                    </a:lnTo>
                    <a:lnTo>
                      <a:pt x="648589" y="307467"/>
                    </a:lnTo>
                    <a:lnTo>
                      <a:pt x="674497" y="28829"/>
                    </a:lnTo>
                    <a:lnTo>
                      <a:pt x="57277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任意多边形: 形状 52"/>
              <p:cNvSpPr/>
              <p:nvPr/>
            </p:nvSpPr>
            <p:spPr>
              <a:xfrm>
                <a:off x="7845840" y="1872720"/>
                <a:ext cx="46800" cy="199440"/>
              </a:xfrm>
              <a:custGeom>
                <a:avLst/>
                <a:gdLst/>
                <a:ahLst/>
                <a:rect l="l" t="t" r="r" b="b"/>
                <a:pathLst>
                  <a:path w="88265" h="281559">
                    <a:moveTo>
                      <a:pt x="88265" y="50165"/>
                    </a:moveTo>
                    <a:lnTo>
                      <a:pt x="21971" y="0"/>
                    </a:lnTo>
                    <a:lnTo>
                      <a:pt x="0" y="281559"/>
                    </a:lnTo>
                    <a:lnTo>
                      <a:pt x="64770" y="277241"/>
                    </a:lnTo>
                    <a:lnTo>
                      <a:pt x="88265" y="50165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任意多边形: 形状 53"/>
              <p:cNvSpPr/>
              <p:nvPr/>
            </p:nvSpPr>
            <p:spPr>
              <a:xfrm>
                <a:off x="7609320" y="1397160"/>
                <a:ext cx="222120" cy="470880"/>
              </a:xfrm>
              <a:custGeom>
                <a:avLst/>
                <a:gdLst/>
                <a:ahLst/>
                <a:rect l="l" t="t" r="r" b="b"/>
                <a:pathLst>
                  <a:path w="418338" h="664718">
                    <a:moveTo>
                      <a:pt x="113538" y="0"/>
                    </a:moveTo>
                    <a:lnTo>
                      <a:pt x="418338" y="19431"/>
                    </a:lnTo>
                    <a:lnTo>
                      <a:pt x="327533" y="664718"/>
                    </a:lnTo>
                    <a:lnTo>
                      <a:pt x="0" y="656717"/>
                    </a:lnTo>
                    <a:lnTo>
                      <a:pt x="113538" y="0"/>
                    </a:lnTo>
                  </a:path>
                </a:pathLst>
              </a:custGeom>
              <a:solidFill>
                <a:srgbClr val="b29351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任意多边形: 形状 54"/>
              <p:cNvSpPr/>
              <p:nvPr/>
            </p:nvSpPr>
            <p:spPr>
              <a:xfrm>
                <a:off x="6794280" y="4079520"/>
                <a:ext cx="455040" cy="1475640"/>
              </a:xfrm>
              <a:custGeom>
                <a:avLst/>
                <a:gdLst/>
                <a:ahLst/>
                <a:rect l="l" t="t" r="r" b="b"/>
                <a:pathLst>
                  <a:path w="856107" h="2081657">
                    <a:moveTo>
                      <a:pt x="856107" y="8763"/>
                    </a:moveTo>
                    <a:lnTo>
                      <a:pt x="149352" y="2049272"/>
                    </a:lnTo>
                    <a:lnTo>
                      <a:pt x="0" y="2081657"/>
                    </a:lnTo>
                    <a:lnTo>
                      <a:pt x="781812" y="0"/>
                    </a:lnTo>
                    <a:lnTo>
                      <a:pt x="856107" y="8763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任意多边形: 形状 55"/>
              <p:cNvSpPr/>
              <p:nvPr/>
            </p:nvSpPr>
            <p:spPr>
              <a:xfrm>
                <a:off x="6887160" y="5075640"/>
                <a:ext cx="1018800" cy="427320"/>
              </a:xfrm>
              <a:custGeom>
                <a:avLst/>
                <a:gdLst/>
                <a:ahLst/>
                <a:rect l="l" t="t" r="r" b="b"/>
                <a:pathLst>
                  <a:path w="1916303" h="602996">
                    <a:moveTo>
                      <a:pt x="1916303" y="602996"/>
                    </a:moveTo>
                    <a:lnTo>
                      <a:pt x="0" y="217932"/>
                    </a:lnTo>
                    <a:lnTo>
                      <a:pt x="81407" y="0"/>
                    </a:lnTo>
                    <a:lnTo>
                      <a:pt x="1888490" y="319913"/>
                    </a:lnTo>
                    <a:lnTo>
                      <a:pt x="1916303" y="602996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任意多边形: 形状 56"/>
              <p:cNvSpPr/>
              <p:nvPr/>
            </p:nvSpPr>
            <p:spPr>
              <a:xfrm>
                <a:off x="6930360" y="5066280"/>
                <a:ext cx="960480" cy="235800"/>
              </a:xfrm>
              <a:custGeom>
                <a:avLst/>
                <a:gdLst/>
                <a:ahLst/>
                <a:rect l="l" t="t" r="r" b="b"/>
                <a:pathLst>
                  <a:path w="1807083" h="332994">
                    <a:moveTo>
                      <a:pt x="115697" y="0"/>
                    </a:moveTo>
                    <a:lnTo>
                      <a:pt x="0" y="13081"/>
                    </a:lnTo>
                    <a:lnTo>
                      <a:pt x="1807083" y="332994"/>
                    </a:lnTo>
                    <a:lnTo>
                      <a:pt x="1800606" y="272415"/>
                    </a:lnTo>
                    <a:lnTo>
                      <a:pt x="115697" y="0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任意多边形: 形状 57"/>
              <p:cNvSpPr/>
              <p:nvPr/>
            </p:nvSpPr>
            <p:spPr>
              <a:xfrm>
                <a:off x="6732360" y="2056680"/>
                <a:ext cx="1782360" cy="2137680"/>
              </a:xfrm>
              <a:custGeom>
                <a:avLst/>
                <a:gdLst/>
                <a:ahLst/>
                <a:rect l="l" t="t" r="r" b="b"/>
                <a:pathLst>
                  <a:path w="3352800" h="3015488">
                    <a:moveTo>
                      <a:pt x="427990" y="0"/>
                    </a:moveTo>
                    <a:lnTo>
                      <a:pt x="0" y="2671826"/>
                    </a:lnTo>
                    <a:lnTo>
                      <a:pt x="3009138" y="3015488"/>
                    </a:lnTo>
                    <a:lnTo>
                      <a:pt x="3352800" y="32385"/>
                    </a:lnTo>
                    <a:lnTo>
                      <a:pt x="427990" y="0"/>
                    </a:lnTo>
                  </a:path>
                </a:pathLst>
              </a:custGeom>
              <a:solidFill>
                <a:srgbClr val="bc99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任意多边形: 形状 58"/>
              <p:cNvSpPr/>
              <p:nvPr/>
            </p:nvSpPr>
            <p:spPr>
              <a:xfrm>
                <a:off x="6794280" y="2121120"/>
                <a:ext cx="1613520" cy="1958400"/>
              </a:xfrm>
              <a:custGeom>
                <a:avLst/>
                <a:gdLst/>
                <a:ahLst/>
                <a:rect l="l" t="t" r="r" b="b"/>
                <a:pathLst>
                  <a:path w="3035046" h="2762758">
                    <a:moveTo>
                      <a:pt x="402082" y="0"/>
                    </a:moveTo>
                    <a:lnTo>
                      <a:pt x="0" y="2464435"/>
                    </a:lnTo>
                    <a:lnTo>
                      <a:pt x="2717292" y="2762758"/>
                    </a:lnTo>
                    <a:lnTo>
                      <a:pt x="3035046" y="42164"/>
                    </a:lnTo>
                    <a:lnTo>
                      <a:pt x="402082" y="0"/>
                    </a:lnTo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任意多边形: 形状 59"/>
              <p:cNvSpPr/>
              <p:nvPr/>
            </p:nvSpPr>
            <p:spPr>
              <a:xfrm>
                <a:off x="7462080" y="2038320"/>
                <a:ext cx="452880" cy="105480"/>
              </a:xfrm>
              <a:custGeom>
                <a:avLst/>
                <a:gdLst/>
                <a:ahLst/>
                <a:rect l="l" t="t" r="r" b="b"/>
                <a:pathLst>
                  <a:path w="851916" h="149225">
                    <a:moveTo>
                      <a:pt x="0" y="0"/>
                    </a:moveTo>
                    <a:lnTo>
                      <a:pt x="0" y="130429"/>
                    </a:lnTo>
                    <a:lnTo>
                      <a:pt x="851916" y="149225"/>
                    </a:lnTo>
                    <a:lnTo>
                      <a:pt x="851916" y="260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任意多边形: 形状 60"/>
              <p:cNvSpPr/>
              <p:nvPr/>
            </p:nvSpPr>
            <p:spPr>
              <a:xfrm>
                <a:off x="7093080" y="3831120"/>
                <a:ext cx="721800" cy="340200"/>
              </a:xfrm>
              <a:custGeom>
                <a:avLst/>
                <a:gdLst/>
                <a:ahLst/>
                <a:rect l="l" t="t" r="r" b="b"/>
                <a:pathLst>
                  <a:path w="1357630" h="479933">
                    <a:moveTo>
                      <a:pt x="25908" y="0"/>
                    </a:moveTo>
                    <a:lnTo>
                      <a:pt x="0" y="324231"/>
                    </a:lnTo>
                    <a:lnTo>
                      <a:pt x="1318641" y="479933"/>
                    </a:lnTo>
                    <a:lnTo>
                      <a:pt x="1357630" y="160020"/>
                    </a:lnTo>
                    <a:lnTo>
                      <a:pt x="25908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任意多边形: 形状 61"/>
              <p:cNvSpPr/>
              <p:nvPr/>
            </p:nvSpPr>
            <p:spPr>
              <a:xfrm>
                <a:off x="7778160" y="3943080"/>
                <a:ext cx="87120" cy="225000"/>
              </a:xfrm>
              <a:custGeom>
                <a:avLst/>
                <a:gdLst/>
                <a:ahLst/>
                <a:rect l="l" t="t" r="r" b="b"/>
                <a:pathLst>
                  <a:path w="164339" h="317755">
                    <a:moveTo>
                      <a:pt x="164338" y="15113"/>
                    </a:moveTo>
                    <a:lnTo>
                      <a:pt x="67057" y="0"/>
                    </a:lnTo>
                    <a:lnTo>
                      <a:pt x="0" y="317754"/>
                    </a:lnTo>
                    <a:cubicBezTo>
                      <a:pt x="59309" y="300736"/>
                      <a:pt x="103759" y="288163"/>
                      <a:pt x="121032" y="283210"/>
                    </a:cubicBezTo>
                    <a:close/>
                  </a:path>
                </a:pathLst>
              </a:custGeom>
              <a:solidFill>
                <a:srgbClr val="ae7b4c"/>
              </a:solidFill>
              <a:ln w="1260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任意多边形: 形状 62"/>
              <p:cNvSpPr/>
              <p:nvPr/>
            </p:nvSpPr>
            <p:spPr>
              <a:xfrm>
                <a:off x="7263360" y="2787840"/>
                <a:ext cx="682560" cy="717120"/>
              </a:xfrm>
              <a:custGeom>
                <a:avLst/>
                <a:gdLst/>
                <a:ahLst/>
                <a:rect l="l" t="t" r="r" b="b"/>
                <a:pathLst>
                  <a:path w="1283970" h="1011682">
                    <a:moveTo>
                      <a:pt x="1225677" y="1011682"/>
                    </a:moveTo>
                    <a:lnTo>
                      <a:pt x="1283970" y="84328"/>
                    </a:lnTo>
                    <a:lnTo>
                      <a:pt x="77851" y="0"/>
                    </a:lnTo>
                    <a:lnTo>
                      <a:pt x="0" y="880618"/>
                    </a:lnTo>
                    <a:lnTo>
                      <a:pt x="1225677" y="1011682"/>
                    </a:lnTo>
                  </a:path>
                </a:pathLst>
              </a:custGeom>
              <a:solidFill>
                <a:srgbClr val="e76f0b"/>
              </a:solidFill>
              <a:ln w="6480">
                <a:solidFill>
                  <a:srgbClr val="fac5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任意多边形: 形状 63"/>
              <p:cNvSpPr/>
              <p:nvPr/>
            </p:nvSpPr>
            <p:spPr>
              <a:xfrm>
                <a:off x="7216560" y="2451960"/>
                <a:ext cx="756720" cy="395280"/>
              </a:xfrm>
              <a:custGeom>
                <a:avLst/>
                <a:gdLst/>
                <a:ahLst/>
                <a:rect l="l" t="t" r="r" b="b"/>
                <a:pathLst>
                  <a:path w="1423543" h="557784">
                    <a:moveTo>
                      <a:pt x="729615" y="0"/>
                    </a:moveTo>
                    <a:lnTo>
                      <a:pt x="0" y="463677"/>
                    </a:lnTo>
                    <a:lnTo>
                      <a:pt x="1423543" y="557784"/>
                    </a:lnTo>
                    <a:lnTo>
                      <a:pt x="729615" y="0"/>
                    </a:lnTo>
                  </a:path>
                </a:pathLst>
              </a:custGeom>
              <a:solidFill>
                <a:srgbClr val="a842d9"/>
              </a:solidFill>
              <a:ln w="6480">
                <a:solidFill>
                  <a:srgbClr val="cb8e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64"/>
              <p:cNvSpPr/>
              <p:nvPr/>
            </p:nvSpPr>
            <p:spPr>
              <a:xfrm>
                <a:off x="7390440" y="2824920"/>
                <a:ext cx="246960" cy="293040"/>
              </a:xfrm>
              <a:custGeom>
                <a:avLst/>
                <a:gdLst/>
                <a:ahLst/>
                <a:rect l="l" t="t" r="r" b="b"/>
                <a:pathLst>
                  <a:path w="465075" h="413640">
                    <a:moveTo>
                      <a:pt x="26289" y="229616"/>
                    </a:moveTo>
                    <a:cubicBezTo>
                      <a:pt x="16637" y="127635"/>
                      <a:pt x="0" y="21082"/>
                      <a:pt x="162433" y="35052"/>
                    </a:cubicBezTo>
                    <a:cubicBezTo>
                      <a:pt x="232410" y="2159"/>
                      <a:pt x="298323" y="0"/>
                      <a:pt x="356997" y="51308"/>
                    </a:cubicBezTo>
                    <a:cubicBezTo>
                      <a:pt x="416433" y="63246"/>
                      <a:pt x="443484" y="90170"/>
                      <a:pt x="438023" y="132334"/>
                    </a:cubicBezTo>
                    <a:cubicBezTo>
                      <a:pt x="462788" y="166116"/>
                      <a:pt x="465074" y="198628"/>
                      <a:pt x="438023" y="229616"/>
                    </a:cubicBezTo>
                    <a:cubicBezTo>
                      <a:pt x="370967" y="223774"/>
                      <a:pt x="324612" y="257302"/>
                      <a:pt x="292100" y="317119"/>
                    </a:cubicBezTo>
                    <a:cubicBezTo>
                      <a:pt x="274447" y="386334"/>
                      <a:pt x="234442" y="413639"/>
                      <a:pt x="172085" y="399161"/>
                    </a:cubicBezTo>
                    <a:cubicBezTo>
                      <a:pt x="82423" y="353568"/>
                      <a:pt x="12827" y="302514"/>
                      <a:pt x="26289" y="229616"/>
                    </a:cubicBezTo>
                    <a:close/>
                  </a:path>
                </a:pathLst>
              </a:custGeom>
              <a:solidFill>
                <a:srgbClr val="f8a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组合 14"/>
            <p:cNvGrpSpPr/>
            <p:nvPr/>
          </p:nvGrpSpPr>
          <p:grpSpPr>
            <a:xfrm>
              <a:off x="5151600" y="1931400"/>
              <a:ext cx="2343240" cy="3803040"/>
              <a:chOff x="5151600" y="1931400"/>
              <a:chExt cx="2343240" cy="3803040"/>
            </a:xfrm>
          </p:grpSpPr>
          <p:grpSp>
            <p:nvGrpSpPr>
              <p:cNvPr id="641" name="组合 15"/>
              <p:cNvGrpSpPr/>
              <p:nvPr/>
            </p:nvGrpSpPr>
            <p:grpSpPr>
              <a:xfrm>
                <a:off x="5151600" y="1931400"/>
                <a:ext cx="2343240" cy="3803040"/>
                <a:chOff x="5151600" y="1931400"/>
                <a:chExt cx="2343240" cy="3803040"/>
              </a:xfrm>
            </p:grpSpPr>
            <p:sp>
              <p:nvSpPr>
                <p:cNvPr id="642" name="任意多边形: 形状 23"/>
                <p:cNvSpPr/>
                <p:nvPr/>
              </p:nvSpPr>
              <p:spPr>
                <a:xfrm>
                  <a:off x="6028560" y="4867200"/>
                  <a:ext cx="162720" cy="527400"/>
                </a:xfrm>
                <a:custGeom>
                  <a:avLst/>
                  <a:gdLst/>
                  <a:ahLst/>
                  <a:rect l="l" t="t" r="r" b="b"/>
                  <a:pathLst>
                    <a:path w="331471" h="804800">
                      <a:moveTo>
                        <a:pt x="46101" y="791210"/>
                      </a:moveTo>
                      <a:cubicBezTo>
                        <a:pt x="149987" y="804799"/>
                        <a:pt x="247650" y="779526"/>
                        <a:pt x="331470" y="729615"/>
                      </a:cubicBezTo>
                      <a:cubicBezTo>
                        <a:pt x="268224" y="537972"/>
                        <a:pt x="263144" y="281178"/>
                        <a:pt x="279527" y="0"/>
                      </a:cubicBezTo>
                      <a:lnTo>
                        <a:pt x="13716" y="0"/>
                      </a:lnTo>
                      <a:cubicBezTo>
                        <a:pt x="4318" y="325247"/>
                        <a:pt x="0" y="653034"/>
                        <a:pt x="46101" y="79121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任意多边形: 形状 24"/>
                <p:cNvSpPr/>
                <p:nvPr/>
              </p:nvSpPr>
              <p:spPr>
                <a:xfrm>
                  <a:off x="5348160" y="2207520"/>
                  <a:ext cx="1347840" cy="1426680"/>
                </a:xfrm>
                <a:custGeom>
                  <a:avLst/>
                  <a:gdLst/>
                  <a:ahLst/>
                  <a:rect l="l" t="t" r="r" b="b"/>
                  <a:pathLst>
                    <a:path w="2741677" h="2176146">
                      <a:moveTo>
                        <a:pt x="2379980" y="632333"/>
                      </a:moveTo>
                      <a:cubicBezTo>
                        <a:pt x="2741676" y="1211580"/>
                        <a:pt x="2441194" y="1634998"/>
                        <a:pt x="1689354" y="1951990"/>
                      </a:cubicBezTo>
                      <a:cubicBezTo>
                        <a:pt x="1648587" y="1981962"/>
                        <a:pt x="1633728" y="2048129"/>
                        <a:pt x="1627759" y="2127123"/>
                      </a:cubicBezTo>
                      <a:cubicBezTo>
                        <a:pt x="1548892" y="2176145"/>
                        <a:pt x="1481836" y="2170049"/>
                        <a:pt x="1430020" y="2091436"/>
                      </a:cubicBezTo>
                      <a:cubicBezTo>
                        <a:pt x="1436751" y="2009394"/>
                        <a:pt x="1390904" y="1966468"/>
                        <a:pt x="1319784" y="1942338"/>
                      </a:cubicBezTo>
                      <a:cubicBezTo>
                        <a:pt x="940435" y="1919605"/>
                        <a:pt x="578739" y="1948180"/>
                        <a:pt x="466979" y="1760728"/>
                      </a:cubicBezTo>
                      <a:lnTo>
                        <a:pt x="0" y="1096010"/>
                      </a:lnTo>
                      <a:lnTo>
                        <a:pt x="350139" y="463677"/>
                      </a:lnTo>
                      <a:lnTo>
                        <a:pt x="1089406" y="285369"/>
                      </a:lnTo>
                      <a:lnTo>
                        <a:pt x="1549908" y="0"/>
                      </a:lnTo>
                      <a:lnTo>
                        <a:pt x="1890395" y="29210"/>
                      </a:ln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任意多边形: 形状 25"/>
                <p:cNvSpPr/>
                <p:nvPr/>
              </p:nvSpPr>
              <p:spPr>
                <a:xfrm>
                  <a:off x="5697000" y="4937400"/>
                  <a:ext cx="183240" cy="633960"/>
                </a:xfrm>
                <a:custGeom>
                  <a:avLst/>
                  <a:gdLst/>
                  <a:ahLst/>
                  <a:rect l="l" t="t" r="r" b="b"/>
                  <a:pathLst>
                    <a:path w="373000" h="967106">
                      <a:moveTo>
                        <a:pt x="97409" y="0"/>
                      </a:moveTo>
                      <a:cubicBezTo>
                        <a:pt x="53340" y="333121"/>
                        <a:pt x="0" y="647954"/>
                        <a:pt x="19558" y="882015"/>
                      </a:cubicBezTo>
                      <a:cubicBezTo>
                        <a:pt x="86995" y="967105"/>
                        <a:pt x="193802" y="919480"/>
                        <a:pt x="288671" y="865759"/>
                      </a:cubicBezTo>
                      <a:cubicBezTo>
                        <a:pt x="287147" y="524002"/>
                        <a:pt x="302006" y="211582"/>
                        <a:pt x="372999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任意多边形: 形状 26"/>
                <p:cNvSpPr/>
                <p:nvPr/>
              </p:nvSpPr>
              <p:spPr>
                <a:xfrm>
                  <a:off x="5678280" y="3740400"/>
                  <a:ext cx="165600" cy="110880"/>
                </a:xfrm>
                <a:custGeom>
                  <a:avLst/>
                  <a:gdLst/>
                  <a:ahLst/>
                  <a:rect l="l" t="t" r="r" b="b"/>
                  <a:pathLst>
                    <a:path w="337186" h="169165">
                      <a:moveTo>
                        <a:pt x="142621" y="0"/>
                      </a:moveTo>
                      <a:lnTo>
                        <a:pt x="0" y="169164"/>
                      </a:lnTo>
                      <a:cubicBezTo>
                        <a:pt x="100457" y="136779"/>
                        <a:pt x="337185" y="113411"/>
                        <a:pt x="337185" y="113411"/>
                      </a:cubicBezTo>
                      <a:cubicBezTo>
                        <a:pt x="337185" y="113411"/>
                        <a:pt x="260731" y="19812"/>
                        <a:pt x="142621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任意多边形: 形状 27"/>
                <p:cNvSpPr/>
                <p:nvPr/>
              </p:nvSpPr>
              <p:spPr>
                <a:xfrm>
                  <a:off x="6404040" y="3046320"/>
                  <a:ext cx="587520" cy="640440"/>
                </a:xfrm>
                <a:custGeom>
                  <a:avLst/>
                  <a:gdLst/>
                  <a:ahLst/>
                  <a:rect l="l" t="t" r="r" b="b"/>
                  <a:pathLst>
                    <a:path w="1195197" h="977266">
                      <a:moveTo>
                        <a:pt x="64516" y="977265"/>
                      </a:moveTo>
                      <a:cubicBezTo>
                        <a:pt x="306324" y="854456"/>
                        <a:pt x="553085" y="663702"/>
                        <a:pt x="754126" y="429387"/>
                      </a:cubicBezTo>
                      <a:cubicBezTo>
                        <a:pt x="834136" y="402463"/>
                        <a:pt x="874522" y="361950"/>
                        <a:pt x="870839" y="306197"/>
                      </a:cubicBezTo>
                      <a:cubicBezTo>
                        <a:pt x="981075" y="279146"/>
                        <a:pt x="1060577" y="166751"/>
                        <a:pt x="1039495" y="150495"/>
                      </a:cubicBezTo>
                      <a:cubicBezTo>
                        <a:pt x="1018414" y="134238"/>
                        <a:pt x="919988" y="183769"/>
                        <a:pt x="841756" y="234823"/>
                      </a:cubicBezTo>
                      <a:cubicBezTo>
                        <a:pt x="892556" y="178563"/>
                        <a:pt x="927734" y="114173"/>
                        <a:pt x="1123823" y="124587"/>
                      </a:cubicBezTo>
                      <a:lnTo>
                        <a:pt x="1195196" y="111633"/>
                      </a:lnTo>
                      <a:cubicBezTo>
                        <a:pt x="1170939" y="48387"/>
                        <a:pt x="1066545" y="0"/>
                        <a:pt x="948817" y="56515"/>
                      </a:cubicBezTo>
                      <a:cubicBezTo>
                        <a:pt x="861313" y="62992"/>
                        <a:pt x="809751" y="116459"/>
                        <a:pt x="760730" y="173228"/>
                      </a:cubicBezTo>
                      <a:cubicBezTo>
                        <a:pt x="573913" y="450469"/>
                        <a:pt x="323088" y="650875"/>
                        <a:pt x="0" y="764413"/>
                      </a:cubicBezTo>
                      <a:cubicBezTo>
                        <a:pt x="21717" y="837438"/>
                        <a:pt x="24130" y="915924"/>
                        <a:pt x="64516" y="977265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任意多边形: 形状 28"/>
                <p:cNvSpPr/>
                <p:nvPr/>
              </p:nvSpPr>
              <p:spPr>
                <a:xfrm>
                  <a:off x="5669640" y="3520800"/>
                  <a:ext cx="788400" cy="1060200"/>
                </a:xfrm>
                <a:custGeom>
                  <a:avLst/>
                  <a:gdLst/>
                  <a:ahLst/>
                  <a:rect l="l" t="t" r="r" b="b"/>
                  <a:pathLst>
                    <a:path w="1604011" h="1616965">
                      <a:moveTo>
                        <a:pt x="99441" y="337185"/>
                      </a:moveTo>
                      <a:cubicBezTo>
                        <a:pt x="210439" y="357759"/>
                        <a:pt x="315341" y="407162"/>
                        <a:pt x="410718" y="501523"/>
                      </a:cubicBezTo>
                      <a:lnTo>
                        <a:pt x="0" y="1292733"/>
                      </a:lnTo>
                      <a:cubicBezTo>
                        <a:pt x="271272" y="1474089"/>
                        <a:pt x="661035" y="1560957"/>
                        <a:pt x="1089533" y="1616964"/>
                      </a:cubicBezTo>
                      <a:cubicBezTo>
                        <a:pt x="1203452" y="1285621"/>
                        <a:pt x="1279779" y="930402"/>
                        <a:pt x="1301369" y="540385"/>
                      </a:cubicBezTo>
                      <a:cubicBezTo>
                        <a:pt x="1301242" y="423799"/>
                        <a:pt x="1425067" y="367157"/>
                        <a:pt x="1604010" y="337185"/>
                      </a:cubicBezTo>
                      <a:lnTo>
                        <a:pt x="1478661" y="0"/>
                      </a:lnTo>
                      <a:cubicBezTo>
                        <a:pt x="1231264" y="74676"/>
                        <a:pt x="1042289" y="85979"/>
                        <a:pt x="987298" y="38862"/>
                      </a:cubicBezTo>
                      <a:cubicBezTo>
                        <a:pt x="967359" y="224790"/>
                        <a:pt x="772794" y="140462"/>
                        <a:pt x="765048" y="26035"/>
                      </a:cubicBezTo>
                      <a:cubicBezTo>
                        <a:pt x="445770" y="36068"/>
                        <a:pt x="249936" y="183134"/>
                        <a:pt x="99441" y="337185"/>
                      </a:cubicBezTo>
                      <a:close/>
                    </a:path>
                  </a:pathLst>
                </a:custGeom>
                <a:solidFill>
                  <a:srgbClr val="a49dc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任意多边形: 形状 29"/>
                <p:cNvSpPr/>
                <p:nvPr/>
              </p:nvSpPr>
              <p:spPr>
                <a:xfrm>
                  <a:off x="5679720" y="4401360"/>
                  <a:ext cx="578520" cy="569160"/>
                </a:xfrm>
                <a:custGeom>
                  <a:avLst/>
                  <a:gdLst/>
                  <a:ahLst/>
                  <a:rect l="l" t="t" r="r" b="b"/>
                  <a:pathLst>
                    <a:path w="1176783" h="868046">
                      <a:moveTo>
                        <a:pt x="64897" y="0"/>
                      </a:moveTo>
                      <a:cubicBezTo>
                        <a:pt x="17272" y="261620"/>
                        <a:pt x="0" y="523240"/>
                        <a:pt x="16256" y="784733"/>
                      </a:cubicBezTo>
                      <a:cubicBezTo>
                        <a:pt x="167259" y="836549"/>
                        <a:pt x="341503" y="868045"/>
                        <a:pt x="625856" y="804164"/>
                      </a:cubicBezTo>
                      <a:cubicBezTo>
                        <a:pt x="789432" y="852551"/>
                        <a:pt x="951484" y="850900"/>
                        <a:pt x="1112266" y="804164"/>
                      </a:cubicBezTo>
                      <a:cubicBezTo>
                        <a:pt x="1167384" y="594233"/>
                        <a:pt x="1176782" y="337566"/>
                        <a:pt x="1160907" y="55118"/>
                      </a:cubicBezTo>
                      <a:cubicBezTo>
                        <a:pt x="821817" y="181610"/>
                        <a:pt x="455803" y="183388"/>
                        <a:pt x="64897" y="0"/>
                      </a:cubicBezTo>
                      <a:close/>
                    </a:path>
                  </a:pathLst>
                </a:custGeom>
                <a:solidFill>
                  <a:srgbClr val="d57f3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任意多边形: 形状 30"/>
                <p:cNvSpPr/>
                <p:nvPr/>
              </p:nvSpPr>
              <p:spPr>
                <a:xfrm>
                  <a:off x="5799240" y="3547440"/>
                  <a:ext cx="585720" cy="1506600"/>
                </a:xfrm>
                <a:custGeom>
                  <a:avLst/>
                  <a:gdLst/>
                  <a:ahLst/>
                  <a:rect l="l" t="t" r="r" b="b"/>
                  <a:pathLst>
                    <a:path w="1191516" h="2297812">
                      <a:moveTo>
                        <a:pt x="203328" y="32385"/>
                      </a:moveTo>
                      <a:lnTo>
                        <a:pt x="348870" y="0"/>
                      </a:lnTo>
                      <a:cubicBezTo>
                        <a:pt x="460376" y="126746"/>
                        <a:pt x="518796" y="242951"/>
                        <a:pt x="521082" y="347980"/>
                      </a:cubicBezTo>
                      <a:cubicBezTo>
                        <a:pt x="636906" y="317500"/>
                        <a:pt x="752984" y="310515"/>
                        <a:pt x="869062" y="326390"/>
                      </a:cubicBezTo>
                      <a:cubicBezTo>
                        <a:pt x="863347" y="201549"/>
                        <a:pt x="835661" y="95631"/>
                        <a:pt x="776098" y="17272"/>
                      </a:cubicBezTo>
                      <a:lnTo>
                        <a:pt x="890652" y="28067"/>
                      </a:lnTo>
                      <a:cubicBezTo>
                        <a:pt x="1166749" y="377952"/>
                        <a:pt x="1191515" y="1202055"/>
                        <a:pt x="1118743" y="2210308"/>
                      </a:cubicBezTo>
                      <a:cubicBezTo>
                        <a:pt x="878840" y="2297811"/>
                        <a:pt x="409194" y="2271649"/>
                        <a:pt x="0" y="2236216"/>
                      </a:cubicBezTo>
                      <a:cubicBezTo>
                        <a:pt x="201550" y="1260221"/>
                        <a:pt x="441453" y="379857"/>
                        <a:pt x="203328" y="32385"/>
                      </a:cubicBezTo>
                      <a:close/>
                    </a:path>
                  </a:pathLst>
                </a:custGeom>
                <a:solidFill>
                  <a:srgbClr val="e7e875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任意多边形: 形状 31"/>
                <p:cNvSpPr/>
                <p:nvPr/>
              </p:nvSpPr>
              <p:spPr>
                <a:xfrm>
                  <a:off x="5655240" y="5505120"/>
                  <a:ext cx="397800" cy="229320"/>
                </a:xfrm>
                <a:custGeom>
                  <a:avLst/>
                  <a:gdLst/>
                  <a:ahLst/>
                  <a:rect l="l" t="t" r="r" b="b"/>
                  <a:pathLst>
                    <a:path w="809753" h="350267">
                      <a:moveTo>
                        <a:pt x="98425" y="9779"/>
                      </a:moveTo>
                      <a:cubicBezTo>
                        <a:pt x="0" y="218186"/>
                        <a:pt x="279527" y="350266"/>
                        <a:pt x="724281" y="278892"/>
                      </a:cubicBezTo>
                      <a:cubicBezTo>
                        <a:pt x="809752" y="243205"/>
                        <a:pt x="809752" y="132969"/>
                        <a:pt x="743712" y="90805"/>
                      </a:cubicBezTo>
                      <a:cubicBezTo>
                        <a:pt x="664083" y="20066"/>
                        <a:pt x="520827" y="8382"/>
                        <a:pt x="374015" y="0"/>
                      </a:cubicBezTo>
                      <a:cubicBezTo>
                        <a:pt x="291211" y="60579"/>
                        <a:pt x="197231" y="50419"/>
                        <a:pt x="98425" y="9779"/>
                      </a:cubicBezTo>
                      <a:close/>
                    </a:path>
                  </a:pathLst>
                </a:custGeom>
                <a:solidFill>
                  <a:srgbClr val="89b8d7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任意多边形: 形状 32"/>
                <p:cNvSpPr/>
                <p:nvPr/>
              </p:nvSpPr>
              <p:spPr>
                <a:xfrm>
                  <a:off x="6047280" y="5318280"/>
                  <a:ext cx="336960" cy="176040"/>
                </a:xfrm>
                <a:custGeom>
                  <a:avLst/>
                  <a:gdLst/>
                  <a:ahLst/>
                  <a:rect l="l" t="t" r="r" b="b"/>
                  <a:pathLst>
                    <a:path w="686055" h="268606">
                      <a:moveTo>
                        <a:pt x="14097" y="103251"/>
                      </a:moveTo>
                      <a:cubicBezTo>
                        <a:pt x="0" y="175768"/>
                        <a:pt x="55626" y="232791"/>
                        <a:pt x="205359" y="268605"/>
                      </a:cubicBezTo>
                      <a:cubicBezTo>
                        <a:pt x="366649" y="265176"/>
                        <a:pt x="520319" y="256413"/>
                        <a:pt x="626872" y="213487"/>
                      </a:cubicBezTo>
                      <a:cubicBezTo>
                        <a:pt x="673354" y="197231"/>
                        <a:pt x="686054" y="141224"/>
                        <a:pt x="648970" y="103251"/>
                      </a:cubicBezTo>
                      <a:cubicBezTo>
                        <a:pt x="569849" y="0"/>
                        <a:pt x="431673" y="2159"/>
                        <a:pt x="297815" y="10795"/>
                      </a:cubicBezTo>
                      <a:cubicBezTo>
                        <a:pt x="260477" y="116586"/>
                        <a:pt x="144526" y="102616"/>
                        <a:pt x="14097" y="103251"/>
                      </a:cubicBezTo>
                      <a:close/>
                    </a:path>
                  </a:pathLst>
                </a:custGeom>
                <a:solidFill>
                  <a:srgbClr val="87b2c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任意多边形: 形状 33"/>
                <p:cNvSpPr/>
                <p:nvPr/>
              </p:nvSpPr>
              <p:spPr>
                <a:xfrm>
                  <a:off x="5315400" y="3680640"/>
                  <a:ext cx="995400" cy="833400"/>
                </a:xfrm>
                <a:custGeom>
                  <a:avLst/>
                  <a:gdLst/>
                  <a:ahLst/>
                  <a:rect l="l" t="t" r="r" b="b"/>
                  <a:pathLst>
                    <a:path w="2025016" h="1271398">
                      <a:moveTo>
                        <a:pt x="1597787" y="341376"/>
                      </a:moveTo>
                      <a:cubicBezTo>
                        <a:pt x="1130046" y="0"/>
                        <a:pt x="0" y="384048"/>
                        <a:pt x="267589" y="768858"/>
                      </a:cubicBezTo>
                      <a:cubicBezTo>
                        <a:pt x="669671" y="1271397"/>
                        <a:pt x="2025015" y="1255268"/>
                        <a:pt x="1908810" y="752602"/>
                      </a:cubicBezTo>
                      <a:cubicBezTo>
                        <a:pt x="1853565" y="648081"/>
                        <a:pt x="1751203" y="600329"/>
                        <a:pt x="1620012" y="587248"/>
                      </a:cubicBezTo>
                      <a:cubicBezTo>
                        <a:pt x="1567180" y="568452"/>
                        <a:pt x="1567815" y="484378"/>
                        <a:pt x="1584071" y="477012"/>
                      </a:cubicBezTo>
                      <a:cubicBezTo>
                        <a:pt x="1600327" y="469645"/>
                        <a:pt x="1621282" y="389509"/>
                        <a:pt x="1597787" y="341376"/>
                      </a:cubicBezTo>
                      <a:close/>
                    </a:path>
                  </a:pathLst>
                </a:custGeom>
                <a:solidFill>
                  <a:srgbClr val="dac4a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任意多边形: 形状 34"/>
                <p:cNvSpPr/>
                <p:nvPr/>
              </p:nvSpPr>
              <p:spPr>
                <a:xfrm>
                  <a:off x="6611040" y="3066840"/>
                  <a:ext cx="622800" cy="144000"/>
                </a:xfrm>
                <a:custGeom>
                  <a:avLst/>
                  <a:gdLst/>
                  <a:ahLst/>
                  <a:rect l="l" t="t" r="r" b="b"/>
                  <a:pathLst>
                    <a:path w="1267080" h="219838">
                      <a:moveTo>
                        <a:pt x="93218" y="203327"/>
                      </a:moveTo>
                      <a:cubicBezTo>
                        <a:pt x="0" y="189992"/>
                        <a:pt x="371602" y="123571"/>
                        <a:pt x="1244346" y="0"/>
                      </a:cubicBezTo>
                      <a:lnTo>
                        <a:pt x="1267079" y="34671"/>
                      </a:lnTo>
                      <a:cubicBezTo>
                        <a:pt x="788162" y="161036"/>
                        <a:pt x="393573" y="219837"/>
                        <a:pt x="93218" y="203327"/>
                      </a:cubicBezTo>
                      <a:close/>
                    </a:path>
                  </a:pathLst>
                </a:custGeom>
                <a:solidFill>
                  <a:srgbClr val="b3433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任意多边形: 形状 35"/>
                <p:cNvSpPr/>
                <p:nvPr/>
              </p:nvSpPr>
              <p:spPr>
                <a:xfrm>
                  <a:off x="7218360" y="2991240"/>
                  <a:ext cx="195480" cy="144000"/>
                </a:xfrm>
                <a:custGeom>
                  <a:avLst/>
                  <a:gdLst/>
                  <a:ahLst/>
                  <a:rect l="l" t="t" r="r" b="b"/>
                  <a:pathLst>
                    <a:path w="398273" h="219965">
                      <a:moveTo>
                        <a:pt x="5842" y="98425"/>
                      </a:moveTo>
                      <a:cubicBezTo>
                        <a:pt x="0" y="27559"/>
                        <a:pt x="158750" y="9906"/>
                        <a:pt x="362585" y="0"/>
                      </a:cubicBezTo>
                      <a:lnTo>
                        <a:pt x="398272" y="115570"/>
                      </a:lnTo>
                      <a:cubicBezTo>
                        <a:pt x="273685" y="167513"/>
                        <a:pt x="149098" y="219964"/>
                        <a:pt x="31877" y="150241"/>
                      </a:cubicBezTo>
                      <a:cubicBezTo>
                        <a:pt x="17526" y="134620"/>
                        <a:pt x="10160" y="116967"/>
                        <a:pt x="5842" y="98425"/>
                      </a:cubicBezTo>
                      <a:close/>
                    </a:path>
                  </a:pathLst>
                </a:custGeom>
                <a:solidFill>
                  <a:srgbClr val="78201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任意多边形: 形状 36"/>
                <p:cNvSpPr/>
                <p:nvPr/>
              </p:nvSpPr>
              <p:spPr>
                <a:xfrm>
                  <a:off x="7332480" y="2902680"/>
                  <a:ext cx="162360" cy="193320"/>
                </a:xfrm>
                <a:custGeom>
                  <a:avLst/>
                  <a:gdLst/>
                  <a:ahLst/>
                  <a:rect l="l" t="t" r="r" b="b"/>
                  <a:pathLst>
                    <a:path w="330709" h="295022">
                      <a:moveTo>
                        <a:pt x="330708" y="0"/>
                      </a:moveTo>
                      <a:cubicBezTo>
                        <a:pt x="301498" y="250571"/>
                        <a:pt x="155575" y="295021"/>
                        <a:pt x="86487" y="182626"/>
                      </a:cubicBezTo>
                      <a:cubicBezTo>
                        <a:pt x="0" y="46482"/>
                        <a:pt x="254000" y="120523"/>
                        <a:pt x="330708" y="0"/>
                      </a:cubicBezTo>
                      <a:close/>
                    </a:path>
                  </a:pathLst>
                </a:custGeom>
                <a:solidFill>
                  <a:srgbClr val="da6634"/>
                </a:solidFill>
                <a:ln w="12600">
                  <a:solidFill>
                    <a:srgbClr val="fac5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任意多边形: 形状 37"/>
                <p:cNvSpPr/>
                <p:nvPr/>
              </p:nvSpPr>
              <p:spPr>
                <a:xfrm>
                  <a:off x="5151600" y="1931400"/>
                  <a:ext cx="1384200" cy="1485720"/>
                </a:xfrm>
                <a:custGeom>
                  <a:avLst/>
                  <a:gdLst/>
                  <a:ahLst/>
                  <a:rect l="l" t="t" r="r" b="b"/>
                  <a:pathLst>
                    <a:path w="2815591" h="2266189">
                      <a:moveTo>
                        <a:pt x="782574" y="437388"/>
                      </a:moveTo>
                      <a:cubicBezTo>
                        <a:pt x="0" y="1125093"/>
                        <a:pt x="240792" y="1710690"/>
                        <a:pt x="782574" y="2266188"/>
                      </a:cubicBezTo>
                      <a:cubicBezTo>
                        <a:pt x="839597" y="2193544"/>
                        <a:pt x="889000" y="2117979"/>
                        <a:pt x="889635" y="2022983"/>
                      </a:cubicBezTo>
                      <a:cubicBezTo>
                        <a:pt x="558927" y="1977644"/>
                        <a:pt x="555625" y="1607947"/>
                        <a:pt x="986917" y="1731137"/>
                      </a:cubicBezTo>
                      <a:cubicBezTo>
                        <a:pt x="1129284" y="1503680"/>
                        <a:pt x="1164844" y="1229487"/>
                        <a:pt x="1084199" y="904240"/>
                      </a:cubicBezTo>
                      <a:cubicBezTo>
                        <a:pt x="1323594" y="1020064"/>
                        <a:pt x="1466596" y="1219835"/>
                        <a:pt x="1551178" y="1439291"/>
                      </a:cubicBezTo>
                      <a:lnTo>
                        <a:pt x="1896491" y="1327404"/>
                      </a:lnTo>
                      <a:cubicBezTo>
                        <a:pt x="1923161" y="1138682"/>
                        <a:pt x="1827530" y="922020"/>
                        <a:pt x="1706753" y="690245"/>
                      </a:cubicBezTo>
                      <a:cubicBezTo>
                        <a:pt x="1869440" y="902589"/>
                        <a:pt x="1977136" y="1106678"/>
                        <a:pt x="1969389" y="1293368"/>
                      </a:cubicBezTo>
                      <a:lnTo>
                        <a:pt x="2212594" y="1205865"/>
                      </a:lnTo>
                      <a:cubicBezTo>
                        <a:pt x="2230628" y="1053719"/>
                        <a:pt x="2138807" y="846328"/>
                        <a:pt x="2001774" y="602742"/>
                      </a:cubicBezTo>
                      <a:cubicBezTo>
                        <a:pt x="2168270" y="752856"/>
                        <a:pt x="2279903" y="945769"/>
                        <a:pt x="2368169" y="1157224"/>
                      </a:cubicBezTo>
                      <a:lnTo>
                        <a:pt x="2504313" y="1118362"/>
                      </a:lnTo>
                      <a:cubicBezTo>
                        <a:pt x="2525268" y="939292"/>
                        <a:pt x="2427351" y="734568"/>
                        <a:pt x="2261108" y="515239"/>
                      </a:cubicBezTo>
                      <a:cubicBezTo>
                        <a:pt x="2465197" y="698119"/>
                        <a:pt x="2614041" y="877570"/>
                        <a:pt x="2659888" y="1050290"/>
                      </a:cubicBezTo>
                      <a:lnTo>
                        <a:pt x="2815590" y="1011428"/>
                      </a:lnTo>
                      <a:cubicBezTo>
                        <a:pt x="2559431" y="456946"/>
                        <a:pt x="2058035" y="0"/>
                        <a:pt x="1152144" y="291592"/>
                      </a:cubicBezTo>
                      <a:cubicBezTo>
                        <a:pt x="1048385" y="301371"/>
                        <a:pt x="989203" y="204978"/>
                        <a:pt x="957580" y="126239"/>
                      </a:cubicBezTo>
                      <a:cubicBezTo>
                        <a:pt x="932942" y="204344"/>
                        <a:pt x="947547" y="279019"/>
                        <a:pt x="1006221" y="350013"/>
                      </a:cubicBezTo>
                      <a:cubicBezTo>
                        <a:pt x="947547" y="280290"/>
                        <a:pt x="860298" y="250699"/>
                        <a:pt x="743585" y="262510"/>
                      </a:cubicBezTo>
                      <a:cubicBezTo>
                        <a:pt x="817880" y="307341"/>
                        <a:pt x="869442" y="352680"/>
                        <a:pt x="889508" y="398654"/>
                      </a:cubicBezTo>
                      <a:cubicBezTo>
                        <a:pt x="786892" y="347854"/>
                        <a:pt x="718820" y="364110"/>
                        <a:pt x="613918" y="427864"/>
                      </a:cubicBezTo>
                      <a:cubicBezTo>
                        <a:pt x="698119" y="412496"/>
                        <a:pt x="758952" y="412623"/>
                        <a:pt x="782574" y="437388"/>
                      </a:cubicBezTo>
                      <a:close/>
                    </a:path>
                  </a:pathLst>
                </a:custGeom>
                <a:solidFill>
                  <a:srgbClr val="d8660a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任意多边形: 形状 38"/>
                <p:cNvSpPr/>
                <p:nvPr/>
              </p:nvSpPr>
              <p:spPr>
                <a:xfrm>
                  <a:off x="5824080" y="3879720"/>
                  <a:ext cx="113040" cy="77400"/>
                </a:xfrm>
                <a:custGeom>
                  <a:avLst/>
                  <a:gdLst/>
                  <a:ahLst/>
                  <a:rect l="l" t="t" r="r" b="b"/>
                  <a:pathLst>
                    <a:path w="230125" h="118365">
                      <a:moveTo>
                        <a:pt x="230124" y="44577"/>
                      </a:moveTo>
                      <a:cubicBezTo>
                        <a:pt x="230124" y="66421"/>
                        <a:pt x="202565" y="118364"/>
                        <a:pt x="115062" y="108585"/>
                      </a:cubicBezTo>
                      <a:cubicBezTo>
                        <a:pt x="15748" y="109982"/>
                        <a:pt x="0" y="68072"/>
                        <a:pt x="0" y="44577"/>
                      </a:cubicBezTo>
                      <a:cubicBezTo>
                        <a:pt x="0" y="21082"/>
                        <a:pt x="51562" y="0"/>
                        <a:pt x="115062" y="0"/>
                      </a:cubicBezTo>
                      <a:cubicBezTo>
                        <a:pt x="178562" y="0"/>
                        <a:pt x="230124" y="22733"/>
                        <a:pt x="230124" y="44577"/>
                      </a:cubicBezTo>
                      <a:close/>
                    </a:path>
                  </a:pathLst>
                </a:custGeom>
                <a:solidFill>
                  <a:srgbClr val="a842d9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任意多边形: 形状 39"/>
                <p:cNvSpPr/>
                <p:nvPr/>
              </p:nvSpPr>
              <p:spPr>
                <a:xfrm>
                  <a:off x="5644440" y="3908160"/>
                  <a:ext cx="103320" cy="64800"/>
                </a:xfrm>
                <a:custGeom>
                  <a:avLst/>
                  <a:gdLst/>
                  <a:ahLst/>
                  <a:rect l="l" t="t" r="r" b="b"/>
                  <a:pathLst>
                    <a:path w="210821" h="98934">
                      <a:moveTo>
                        <a:pt x="210820" y="36449"/>
                      </a:moveTo>
                      <a:cubicBezTo>
                        <a:pt x="210820" y="0"/>
                        <a:pt x="163576" y="0"/>
                        <a:pt x="105410" y="0"/>
                      </a:cubicBezTo>
                      <a:cubicBezTo>
                        <a:pt x="47244" y="0"/>
                        <a:pt x="0" y="45847"/>
                        <a:pt x="0" y="66040"/>
                      </a:cubicBezTo>
                      <a:cubicBezTo>
                        <a:pt x="0" y="98933"/>
                        <a:pt x="47244" y="98933"/>
                        <a:pt x="105410" y="98933"/>
                      </a:cubicBezTo>
                      <a:cubicBezTo>
                        <a:pt x="163576" y="98933"/>
                        <a:pt x="210820" y="72898"/>
                        <a:pt x="210820" y="36449"/>
                      </a:cubicBezTo>
                      <a:close/>
                    </a:path>
                  </a:pathLst>
                </a:custGeom>
                <a:solidFill>
                  <a:srgbClr val="e76f0b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任意多边形: 形状 40"/>
                <p:cNvSpPr/>
                <p:nvPr/>
              </p:nvSpPr>
              <p:spPr>
                <a:xfrm>
                  <a:off x="5513760" y="4030920"/>
                  <a:ext cx="109800" cy="73080"/>
                </a:xfrm>
                <a:custGeom>
                  <a:avLst/>
                  <a:gdLst/>
                  <a:ahLst/>
                  <a:rect l="l" t="t" r="r" b="b"/>
                  <a:pathLst>
                    <a:path w="223775" h="111761">
                      <a:moveTo>
                        <a:pt x="223774" y="66421"/>
                      </a:moveTo>
                      <a:cubicBezTo>
                        <a:pt x="223774" y="111760"/>
                        <a:pt x="168656" y="111760"/>
                        <a:pt x="111887" y="111760"/>
                      </a:cubicBezTo>
                      <a:cubicBezTo>
                        <a:pt x="50165" y="111760"/>
                        <a:pt x="0" y="110109"/>
                        <a:pt x="0" y="66421"/>
                      </a:cubicBezTo>
                      <a:cubicBezTo>
                        <a:pt x="0" y="22733"/>
                        <a:pt x="50038" y="0"/>
                        <a:pt x="111887" y="0"/>
                      </a:cubicBezTo>
                      <a:cubicBezTo>
                        <a:pt x="173736" y="0"/>
                        <a:pt x="223774" y="21082"/>
                        <a:pt x="223774" y="66421"/>
                      </a:cubicBezTo>
                      <a:close/>
                    </a:path>
                  </a:pathLst>
                </a:custGeom>
                <a:solidFill>
                  <a:srgbClr val="60b74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任意多边形: 形状 41"/>
                <p:cNvSpPr/>
                <p:nvPr/>
              </p:nvSpPr>
              <p:spPr>
                <a:xfrm>
                  <a:off x="5568840" y="4150800"/>
                  <a:ext cx="115560" cy="80640"/>
                </a:xfrm>
                <a:custGeom>
                  <a:avLst/>
                  <a:gdLst/>
                  <a:ahLst/>
                  <a:rect l="l" t="t" r="r" b="b"/>
                  <a:pathLst>
                    <a:path w="235713" h="123191">
                      <a:moveTo>
                        <a:pt x="235712" y="55118"/>
                      </a:moveTo>
                      <a:cubicBezTo>
                        <a:pt x="235712" y="103759"/>
                        <a:pt x="183007" y="123190"/>
                        <a:pt x="117856" y="123190"/>
                      </a:cubicBezTo>
                      <a:cubicBezTo>
                        <a:pt x="52832" y="123190"/>
                        <a:pt x="0" y="92329"/>
                        <a:pt x="0" y="55118"/>
                      </a:cubicBezTo>
                      <a:cubicBezTo>
                        <a:pt x="0" y="17780"/>
                        <a:pt x="52705" y="0"/>
                        <a:pt x="117856" y="0"/>
                      </a:cubicBezTo>
                      <a:cubicBezTo>
                        <a:pt x="183007" y="0"/>
                        <a:pt x="235712" y="6477"/>
                        <a:pt x="235712" y="55118"/>
                      </a:cubicBezTo>
                      <a:close/>
                    </a:path>
                  </a:pathLst>
                </a:custGeom>
                <a:solidFill>
                  <a:srgbClr val="87adb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任意多边形: 形状 42"/>
                <p:cNvSpPr/>
                <p:nvPr/>
              </p:nvSpPr>
              <p:spPr>
                <a:xfrm>
                  <a:off x="5717160" y="4214520"/>
                  <a:ext cx="109800" cy="89280"/>
                </a:xfrm>
                <a:custGeom>
                  <a:avLst/>
                  <a:gdLst/>
                  <a:ahLst/>
                  <a:rect l="l" t="t" r="r" b="b"/>
                  <a:pathLst>
                    <a:path w="223775" h="136272">
                      <a:moveTo>
                        <a:pt x="223774" y="58420"/>
                      </a:moveTo>
                      <a:cubicBezTo>
                        <a:pt x="223774" y="17907"/>
                        <a:pt x="173736" y="0"/>
                        <a:pt x="111887" y="0"/>
                      </a:cubicBezTo>
                      <a:cubicBezTo>
                        <a:pt x="50038" y="0"/>
                        <a:pt x="0" y="47625"/>
                        <a:pt x="0" y="58420"/>
                      </a:cubicBezTo>
                      <a:cubicBezTo>
                        <a:pt x="0" y="103759"/>
                        <a:pt x="50038" y="136271"/>
                        <a:pt x="111887" y="136271"/>
                      </a:cubicBezTo>
                      <a:cubicBezTo>
                        <a:pt x="173736" y="136271"/>
                        <a:pt x="223774" y="98933"/>
                        <a:pt x="223774" y="58420"/>
                      </a:cubicBezTo>
                      <a:close/>
                    </a:path>
                  </a:pathLst>
                </a:custGeom>
                <a:solidFill>
                  <a:srgbClr val="8e93c8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任意多边形: 形状 43"/>
                <p:cNvSpPr/>
                <p:nvPr/>
              </p:nvSpPr>
              <p:spPr>
                <a:xfrm>
                  <a:off x="5880600" y="4219560"/>
                  <a:ext cx="120240" cy="83880"/>
                </a:xfrm>
                <a:custGeom>
                  <a:avLst/>
                  <a:gdLst/>
                  <a:ahLst/>
                  <a:rect l="l" t="t" r="r" b="b"/>
                  <a:pathLst>
                    <a:path w="244857" h="128144">
                      <a:moveTo>
                        <a:pt x="244856" y="60833"/>
                      </a:moveTo>
                      <a:cubicBezTo>
                        <a:pt x="244856" y="94107"/>
                        <a:pt x="189992" y="128143"/>
                        <a:pt x="122428" y="128143"/>
                      </a:cubicBezTo>
                      <a:cubicBezTo>
                        <a:pt x="54864" y="128143"/>
                        <a:pt x="0" y="95758"/>
                        <a:pt x="0" y="60833"/>
                      </a:cubicBezTo>
                      <a:cubicBezTo>
                        <a:pt x="0" y="45212"/>
                        <a:pt x="54864" y="0"/>
                        <a:pt x="122428" y="0"/>
                      </a:cubicBezTo>
                      <a:cubicBezTo>
                        <a:pt x="189992" y="0"/>
                        <a:pt x="244856" y="27559"/>
                        <a:pt x="244856" y="60833"/>
                      </a:cubicBezTo>
                      <a:close/>
                    </a:path>
                  </a:pathLst>
                </a:custGeom>
                <a:solidFill>
                  <a:srgbClr val="eae630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组合 16"/>
              <p:cNvGrpSpPr/>
              <p:nvPr/>
            </p:nvGrpSpPr>
            <p:grpSpPr>
              <a:xfrm>
                <a:off x="6001200" y="2765880"/>
                <a:ext cx="520920" cy="522000"/>
                <a:chOff x="6001200" y="2765880"/>
                <a:chExt cx="520920" cy="522000"/>
              </a:xfrm>
            </p:grpSpPr>
            <p:sp>
              <p:nvSpPr>
                <p:cNvPr id="664" name="任意多边形: 形状 17"/>
                <p:cNvSpPr/>
                <p:nvPr/>
              </p:nvSpPr>
              <p:spPr>
                <a:xfrm>
                  <a:off x="6001200" y="2895120"/>
                  <a:ext cx="130680" cy="225360"/>
                </a:xfrm>
                <a:custGeom>
                  <a:avLst/>
                  <a:gdLst/>
                  <a:ahLst/>
                  <a:rect l="l" t="t" r="r" b="b"/>
                  <a:pathLst>
                    <a:path w="265939" h="343663">
                      <a:moveTo>
                        <a:pt x="265938" y="171831"/>
                      </a:moveTo>
                      <a:cubicBezTo>
                        <a:pt x="265938" y="266700"/>
                        <a:pt x="217297" y="343662"/>
                        <a:pt x="143891" y="343662"/>
                      </a:cubicBezTo>
                      <a:cubicBezTo>
                        <a:pt x="70485" y="343662"/>
                        <a:pt x="0" y="266700"/>
                        <a:pt x="0" y="171831"/>
                      </a:cubicBezTo>
                      <a:cubicBezTo>
                        <a:pt x="0" y="76962"/>
                        <a:pt x="49403" y="0"/>
                        <a:pt x="122809" y="0"/>
                      </a:cubicBezTo>
                      <a:cubicBezTo>
                        <a:pt x="196342" y="0"/>
                        <a:pt x="265938" y="76962"/>
                        <a:pt x="265938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任意多边形: 形状 18"/>
                <p:cNvSpPr/>
                <p:nvPr/>
              </p:nvSpPr>
              <p:spPr>
                <a:xfrm>
                  <a:off x="6392880" y="2765880"/>
                  <a:ext cx="124560" cy="225360"/>
                </a:xfrm>
                <a:custGeom>
                  <a:avLst/>
                  <a:gdLst/>
                  <a:ahLst/>
                  <a:rect l="l" t="t" r="r" b="b"/>
                  <a:pathLst>
                    <a:path w="253493" h="343663">
                      <a:moveTo>
                        <a:pt x="253492" y="171831"/>
                      </a:moveTo>
                      <a:cubicBezTo>
                        <a:pt x="253492" y="266700"/>
                        <a:pt x="206375" y="343662"/>
                        <a:pt x="132969" y="343662"/>
                      </a:cubicBezTo>
                      <a:cubicBezTo>
                        <a:pt x="59563" y="343662"/>
                        <a:pt x="0" y="266700"/>
                        <a:pt x="0" y="171831"/>
                      </a:cubicBezTo>
                      <a:cubicBezTo>
                        <a:pt x="0" y="76962"/>
                        <a:pt x="59563" y="0"/>
                        <a:pt x="132969" y="0"/>
                      </a:cubicBezTo>
                      <a:cubicBezTo>
                        <a:pt x="206375" y="0"/>
                        <a:pt x="253492" y="76835"/>
                        <a:pt x="253492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任意多边形: 形状 19"/>
                <p:cNvSpPr/>
                <p:nvPr/>
              </p:nvSpPr>
              <p:spPr>
                <a:xfrm>
                  <a:off x="6060600" y="2940480"/>
                  <a:ext cx="73080" cy="118080"/>
                </a:xfrm>
                <a:custGeom>
                  <a:avLst/>
                  <a:gdLst/>
                  <a:ahLst/>
                  <a:rect l="l" t="t" r="r" b="b"/>
                  <a:pathLst>
                    <a:path w="149226" h="180468">
                      <a:moveTo>
                        <a:pt x="108077" y="0"/>
                      </a:moveTo>
                      <a:cubicBezTo>
                        <a:pt x="149225" y="50800"/>
                        <a:pt x="148463" y="111125"/>
                        <a:pt x="126365" y="176276"/>
                      </a:cubicBezTo>
                      <a:cubicBezTo>
                        <a:pt x="19431" y="180467"/>
                        <a:pt x="0" y="17018"/>
                        <a:pt x="108077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任意多边形: 形状 20"/>
                <p:cNvSpPr/>
                <p:nvPr/>
              </p:nvSpPr>
              <p:spPr>
                <a:xfrm>
                  <a:off x="6444000" y="2809080"/>
                  <a:ext cx="78120" cy="122760"/>
                </a:xfrm>
                <a:custGeom>
                  <a:avLst/>
                  <a:gdLst/>
                  <a:ahLst/>
                  <a:rect l="l" t="t" r="r" b="b"/>
                  <a:pathLst>
                    <a:path w="159259" h="187199">
                      <a:moveTo>
                        <a:pt x="119761" y="0"/>
                      </a:moveTo>
                      <a:cubicBezTo>
                        <a:pt x="159258" y="52070"/>
                        <a:pt x="156591" y="112268"/>
                        <a:pt x="132334" y="176784"/>
                      </a:cubicBezTo>
                      <a:cubicBezTo>
                        <a:pt x="24003" y="187198"/>
                        <a:pt x="0" y="2921"/>
                        <a:pt x="119761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任意多边形: 形状 21"/>
                <p:cNvSpPr/>
                <p:nvPr/>
              </p:nvSpPr>
              <p:spPr>
                <a:xfrm>
                  <a:off x="6292800" y="2991240"/>
                  <a:ext cx="63720" cy="86040"/>
                </a:xfrm>
                <a:custGeom>
                  <a:avLst/>
                  <a:gdLst/>
                  <a:ahLst/>
                  <a:rect l="l" t="t" r="r" b="b"/>
                  <a:pathLst>
                    <a:path w="130176" h="131573">
                      <a:moveTo>
                        <a:pt x="0" y="0"/>
                      </a:moveTo>
                      <a:cubicBezTo>
                        <a:pt x="130175" y="19939"/>
                        <a:pt x="98171" y="70231"/>
                        <a:pt x="7239" y="131572"/>
                      </a:cubicBezTo>
                      <a:cubicBezTo>
                        <a:pt x="109474" y="56261"/>
                        <a:pt x="102108" y="25527"/>
                        <a:pt x="0" y="0"/>
                      </a:cubicBezTo>
                      <a:close/>
                    </a:path>
                  </a:pathLst>
                </a:custGeom>
                <a:solidFill>
                  <a:srgbClr val="2a2a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任意多边形: 形状 22"/>
                <p:cNvSpPr/>
                <p:nvPr/>
              </p:nvSpPr>
              <p:spPr>
                <a:xfrm>
                  <a:off x="6133680" y="3191760"/>
                  <a:ext cx="215640" cy="96120"/>
                </a:xfrm>
                <a:custGeom>
                  <a:avLst/>
                  <a:gdLst/>
                  <a:ahLst/>
                  <a:rect l="l" t="t" r="r" b="b"/>
                  <a:pathLst>
                    <a:path w="438532" h="146686">
                      <a:moveTo>
                        <a:pt x="0" y="106172"/>
                      </a:moveTo>
                      <a:cubicBezTo>
                        <a:pt x="161290" y="146685"/>
                        <a:pt x="366903" y="126238"/>
                        <a:pt x="438531" y="0"/>
                      </a:cubicBezTo>
                      <a:cubicBezTo>
                        <a:pt x="353441" y="105283"/>
                        <a:pt x="178308" y="134493"/>
                        <a:pt x="0" y="106172"/>
                      </a:cubicBezTo>
                      <a:close/>
                    </a:path>
                  </a:pathLst>
                </a:custGeom>
                <a:solidFill>
                  <a:srgbClr val="2c2b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0" name="组合 65"/>
          <p:cNvGrpSpPr/>
          <p:nvPr/>
        </p:nvGrpSpPr>
        <p:grpSpPr>
          <a:xfrm>
            <a:off x="7912080" y="4732200"/>
            <a:ext cx="839880" cy="1203480"/>
            <a:chOff x="7912080" y="4732200"/>
            <a:chExt cx="839880" cy="1203480"/>
          </a:xfrm>
        </p:grpSpPr>
        <p:grpSp>
          <p:nvGrpSpPr>
            <p:cNvPr id="671" name="组合 66"/>
            <p:cNvGrpSpPr/>
            <p:nvPr/>
          </p:nvGrpSpPr>
          <p:grpSpPr>
            <a:xfrm>
              <a:off x="8082360" y="5505120"/>
              <a:ext cx="421200" cy="430560"/>
              <a:chOff x="8082360" y="5505120"/>
              <a:chExt cx="421200" cy="430560"/>
            </a:xfrm>
          </p:grpSpPr>
          <p:sp>
            <p:nvSpPr>
              <p:cNvPr id="672" name="任意多边形: 形状 73"/>
              <p:cNvSpPr/>
              <p:nvPr/>
            </p:nvSpPr>
            <p:spPr>
              <a:xfrm>
                <a:off x="8367120" y="5505120"/>
                <a:ext cx="136440" cy="420840"/>
              </a:xfrm>
              <a:custGeom>
                <a:avLst/>
                <a:gdLst/>
                <a:ahLst/>
                <a:rect l="l" t="t" r="r" b="b"/>
                <a:pathLst>
                  <a:path w="98934" h="228474">
                    <a:moveTo>
                      <a:pt x="98933" y="183134"/>
                    </a:moveTo>
                    <a:cubicBezTo>
                      <a:pt x="87630" y="217170"/>
                      <a:pt x="22733" y="228473"/>
                      <a:pt x="0" y="183134"/>
                    </a:cubicBezTo>
                    <a:lnTo>
                      <a:pt x="8128" y="6477"/>
                    </a:lnTo>
                    <a:lnTo>
                      <a:pt x="75565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74"/>
              <p:cNvSpPr/>
              <p:nvPr/>
            </p:nvSpPr>
            <p:spPr>
              <a:xfrm>
                <a:off x="8082360" y="5551920"/>
                <a:ext cx="128880" cy="383760"/>
              </a:xfrm>
              <a:custGeom>
                <a:avLst/>
                <a:gdLst/>
                <a:ahLst/>
                <a:rect l="l" t="t" r="r" b="b"/>
                <a:pathLst>
                  <a:path w="93346" h="208281">
                    <a:moveTo>
                      <a:pt x="93345" y="165735"/>
                    </a:moveTo>
                    <a:cubicBezTo>
                      <a:pt x="83185" y="196850"/>
                      <a:pt x="22225" y="208280"/>
                      <a:pt x="0" y="167386"/>
                    </a:cubicBezTo>
                    <a:lnTo>
                      <a:pt x="4699" y="6985"/>
                    </a:lnTo>
                    <a:lnTo>
                      <a:pt x="68199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组合 67"/>
            <p:cNvGrpSpPr/>
            <p:nvPr/>
          </p:nvGrpSpPr>
          <p:grpSpPr>
            <a:xfrm>
              <a:off x="7912080" y="4732200"/>
              <a:ext cx="839880" cy="954360"/>
              <a:chOff x="7912080" y="4732200"/>
              <a:chExt cx="839880" cy="954360"/>
            </a:xfrm>
          </p:grpSpPr>
          <p:sp>
            <p:nvSpPr>
              <p:cNvPr id="675" name="任意多边形: 形状 71"/>
              <p:cNvSpPr/>
              <p:nvPr/>
            </p:nvSpPr>
            <p:spPr>
              <a:xfrm>
                <a:off x="8098560" y="4732200"/>
                <a:ext cx="653400" cy="785160"/>
              </a:xfrm>
              <a:custGeom>
                <a:avLst/>
                <a:gdLst/>
                <a:ahLst/>
                <a:rect l="l" t="t" r="r" b="b"/>
                <a:pathLst>
                  <a:path w="473330" h="426086">
                    <a:moveTo>
                      <a:pt x="210693" y="0"/>
                    </a:moveTo>
                    <a:cubicBezTo>
                      <a:pt x="403606" y="0"/>
                      <a:pt x="473329" y="401701"/>
                      <a:pt x="236601" y="426085"/>
                    </a:cubicBezTo>
                    <a:cubicBezTo>
                      <a:pt x="0" y="426085"/>
                      <a:pt x="48514" y="38608"/>
                      <a:pt x="210693" y="0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72"/>
              <p:cNvSpPr/>
              <p:nvPr/>
            </p:nvSpPr>
            <p:spPr>
              <a:xfrm>
                <a:off x="7912080" y="5051520"/>
                <a:ext cx="510480" cy="635040"/>
              </a:xfrm>
              <a:custGeom>
                <a:avLst/>
                <a:gdLst/>
                <a:ahLst/>
                <a:rect l="l" t="t" r="r" b="b"/>
                <a:pathLst>
                  <a:path w="369952" h="344679">
                    <a:moveTo>
                      <a:pt x="126238" y="19685"/>
                    </a:moveTo>
                    <a:cubicBezTo>
                      <a:pt x="277876" y="0"/>
                      <a:pt x="369951" y="278892"/>
                      <a:pt x="186182" y="320421"/>
                    </a:cubicBezTo>
                    <a:cubicBezTo>
                      <a:pt x="0" y="344678"/>
                      <a:pt x="2413" y="63754"/>
                      <a:pt x="126238" y="19685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组合 68"/>
            <p:cNvGrpSpPr/>
            <p:nvPr/>
          </p:nvGrpSpPr>
          <p:grpSpPr>
            <a:xfrm>
              <a:off x="8059320" y="5056920"/>
              <a:ext cx="484920" cy="447480"/>
              <a:chOff x="8059320" y="5056920"/>
              <a:chExt cx="484920" cy="447480"/>
            </a:xfrm>
          </p:grpSpPr>
          <p:sp>
            <p:nvSpPr>
              <p:cNvPr id="678" name="椭圆 69"/>
              <p:cNvSpPr/>
              <p:nvPr/>
            </p:nvSpPr>
            <p:spPr>
              <a:xfrm>
                <a:off x="8398440" y="5056920"/>
                <a:ext cx="145800" cy="2685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椭圆 70"/>
              <p:cNvSpPr/>
              <p:nvPr/>
            </p:nvSpPr>
            <p:spPr>
              <a:xfrm>
                <a:off x="8059320" y="5288040"/>
                <a:ext cx="112320" cy="2163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Freeform 106"/>
          <p:cNvSpPr/>
          <p:nvPr/>
        </p:nvSpPr>
        <p:spPr>
          <a:xfrm>
            <a:off x="6539040" y="1101600"/>
            <a:ext cx="62676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106"/>
          <p:cNvSpPr/>
          <p:nvPr/>
        </p:nvSpPr>
        <p:spPr>
          <a:xfrm>
            <a:off x="4297320" y="30636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106"/>
          <p:cNvSpPr/>
          <p:nvPr/>
        </p:nvSpPr>
        <p:spPr>
          <a:xfrm>
            <a:off x="2327400" y="955800"/>
            <a:ext cx="952200" cy="5634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组合 78"/>
          <p:cNvGrpSpPr/>
          <p:nvPr/>
        </p:nvGrpSpPr>
        <p:grpSpPr>
          <a:xfrm>
            <a:off x="297000" y="290520"/>
            <a:ext cx="1295280" cy="1623960"/>
            <a:chOff x="297000" y="290520"/>
            <a:chExt cx="1295280" cy="1623960"/>
          </a:xfrm>
        </p:grpSpPr>
        <p:sp>
          <p:nvSpPr>
            <p:cNvPr id="684" name="任意多边形: 形状 79"/>
            <p:cNvSpPr/>
            <p:nvPr/>
          </p:nvSpPr>
          <p:spPr>
            <a:xfrm>
              <a:off x="586440" y="754920"/>
              <a:ext cx="602280" cy="678960"/>
            </a:xfrm>
            <a:custGeom>
              <a:avLst/>
              <a:gdLst/>
              <a:ahLst/>
              <a:rect l="l" t="t" r="r" b="b"/>
              <a:pathLst>
                <a:path w="665227" h="562103">
                  <a:moveTo>
                    <a:pt x="665226" y="298958"/>
                  </a:moveTo>
                  <a:cubicBezTo>
                    <a:pt x="665226" y="446405"/>
                    <a:pt x="513842" y="562102"/>
                    <a:pt x="366395" y="562102"/>
                  </a:cubicBezTo>
                  <a:cubicBezTo>
                    <a:pt x="218948" y="562102"/>
                    <a:pt x="47498" y="532257"/>
                    <a:pt x="47498" y="384810"/>
                  </a:cubicBezTo>
                  <a:cubicBezTo>
                    <a:pt x="0" y="160020"/>
                    <a:pt x="218948" y="0"/>
                    <a:pt x="366395" y="0"/>
                  </a:cubicBezTo>
                  <a:cubicBezTo>
                    <a:pt x="513842" y="127"/>
                    <a:pt x="665226" y="69342"/>
                    <a:pt x="665226" y="298958"/>
                  </a:cubicBezTo>
                  <a:close/>
                </a:path>
              </a:pathLst>
            </a:custGeom>
            <a:solidFill>
              <a:srgbClr val="d8660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直接连接符 80"/>
            <p:cNvSpPr/>
            <p:nvPr/>
          </p:nvSpPr>
          <p:spPr>
            <a:xfrm>
              <a:off x="371160" y="551520"/>
              <a:ext cx="105480" cy="266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任意多边形: 形状 81"/>
            <p:cNvSpPr/>
            <p:nvPr/>
          </p:nvSpPr>
          <p:spPr>
            <a:xfrm>
              <a:off x="655560" y="290520"/>
              <a:ext cx="52200" cy="229680"/>
            </a:xfrm>
            <a:custGeom>
              <a:avLst/>
              <a:gdLst/>
              <a:ahLst/>
              <a:rect l="l" t="t" r="r" b="b"/>
              <a:pathLst>
                <a:path w="57660" h="190247">
                  <a:moveTo>
                    <a:pt x="5715" y="0"/>
                  </a:moveTo>
                  <a:cubicBezTo>
                    <a:pt x="0" y="63373"/>
                    <a:pt x="17272" y="126873"/>
                    <a:pt x="57659" y="190246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直接连接符 82"/>
            <p:cNvSpPr/>
            <p:nvPr/>
          </p:nvSpPr>
          <p:spPr>
            <a:xfrm>
              <a:off x="997560" y="316440"/>
              <a:ext cx="3600" cy="24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任意多边形: 形状 83"/>
            <p:cNvSpPr/>
            <p:nvPr/>
          </p:nvSpPr>
          <p:spPr>
            <a:xfrm>
              <a:off x="1361520" y="883800"/>
              <a:ext cx="230760" cy="69480"/>
            </a:xfrm>
            <a:custGeom>
              <a:avLst/>
              <a:gdLst/>
              <a:ahLst/>
              <a:rect l="l" t="t" r="r" b="b"/>
              <a:pathLst>
                <a:path w="255145" h="57659">
                  <a:moveTo>
                    <a:pt x="0" y="18796"/>
                  </a:moveTo>
                  <a:cubicBezTo>
                    <a:pt x="85090" y="0"/>
                    <a:pt x="170053" y="13081"/>
                    <a:pt x="255144" y="5765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直接连接符 84"/>
            <p:cNvSpPr/>
            <p:nvPr/>
          </p:nvSpPr>
          <p:spPr>
            <a:xfrm>
              <a:off x="1290960" y="1460160"/>
              <a:ext cx="97560" cy="245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直接连接符 85"/>
            <p:cNvSpPr/>
            <p:nvPr/>
          </p:nvSpPr>
          <p:spPr>
            <a:xfrm flipH="1">
              <a:off x="707400" y="1684800"/>
              <a:ext cx="97560" cy="229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直接连接符 86"/>
            <p:cNvSpPr/>
            <p:nvPr/>
          </p:nvSpPr>
          <p:spPr>
            <a:xfrm>
              <a:off x="297000" y="1298520"/>
              <a:ext cx="15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32CC-59EE-480C-8DED-402E127113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4805-B4B7-4DA1-8446-C2D7197D06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C82B-DE15-40AD-B0BA-659A1520BF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9E27-6055-4529-A46A-537655B39E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图片 9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1061-C963-4081-A4E9-75C007BE73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49AC-A8FF-4E6C-9D83-8C99CB05EB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图片 9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D453-EC8B-4A9E-9399-105222FBD5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ED42-F3FF-453C-8833-EEDCD332B9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图片 10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62C5-DB12-4B1E-91AE-A7D391FF36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1CD2-FF51-4323-8865-3449E0C778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774A-B827-4048-8086-17B40FEB1BF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组合 145" descr=""/>
          <p:cNvPicPr/>
          <p:nvPr/>
        </p:nvPicPr>
        <p:blipFill>
          <a:blip r:embed="rId2"/>
          <a:stretch/>
        </p:blipFill>
        <p:spPr>
          <a:xfrm>
            <a:off x="1158840" y="782640"/>
            <a:ext cx="614520" cy="588960"/>
          </a:xfrm>
          <a:prstGeom prst="rect">
            <a:avLst/>
          </a:prstGeom>
          <a:ln w="0">
            <a:noFill/>
          </a:ln>
        </p:spPr>
      </p:pic>
      <p:pic>
        <p:nvPicPr>
          <p:cNvPr id="911" name="组合 153" descr=""/>
          <p:cNvPicPr/>
          <p:nvPr/>
        </p:nvPicPr>
        <p:blipFill>
          <a:blip r:embed="rId3"/>
          <a:stretch/>
        </p:blipFill>
        <p:spPr>
          <a:xfrm>
            <a:off x="2023920" y="396720"/>
            <a:ext cx="473040" cy="482760"/>
          </a:xfrm>
          <a:prstGeom prst="rect">
            <a:avLst/>
          </a:prstGeom>
          <a:ln w="0">
            <a:noFill/>
          </a:ln>
        </p:spPr>
      </p:pic>
      <p:pic>
        <p:nvPicPr>
          <p:cNvPr id="912" name="图片 9" descr=""/>
          <p:cNvPicPr/>
          <p:nvPr/>
        </p:nvPicPr>
        <p:blipFill>
          <a:blip r:embed="rId4"/>
          <a:stretch/>
        </p:blipFill>
        <p:spPr>
          <a:xfrm>
            <a:off x="243000" y="338040"/>
            <a:ext cx="923760" cy="1158840"/>
          </a:xfrm>
          <a:prstGeom prst="rect">
            <a:avLst/>
          </a:prstGeom>
          <a:ln w="0">
            <a:noFill/>
          </a:ln>
        </p:spPr>
      </p:pic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2C9A-AE01-43B2-A50B-C4DA24FD25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4589-64E7-4B19-B661-D34EB57568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CE33-D1EE-48E8-B246-02C4367082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DBAD-C0E8-4017-8685-95FDEAF355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图片 31" descr=""/>
          <p:cNvPicPr/>
          <p:nvPr/>
        </p:nvPicPr>
        <p:blipFill>
          <a:blip r:embed="rId2"/>
          <a:stretch/>
        </p:blipFill>
        <p:spPr>
          <a:xfrm>
            <a:off x="415800" y="254160"/>
            <a:ext cx="8650440" cy="6565680"/>
          </a:xfrm>
          <a:prstGeom prst="rect">
            <a:avLst/>
          </a:prstGeom>
          <a:ln w="0">
            <a:noFill/>
          </a:ln>
        </p:spPr>
      </p:pic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39FF-FA13-4205-B2B1-BD5A7CB8D5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A142-6631-4B4B-B753-A9A77A6B7B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823C-6EDE-4575-A57E-27D45594DE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DA81-45B1-4580-A742-95B8D918FC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755D-9F88-48F2-B28F-F6FF3387B1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8952-1D51-46A5-B7EC-0004932D0F0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9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95" descr=""/>
          <p:cNvPicPr/>
          <p:nvPr/>
        </p:nvPicPr>
        <p:blipFill>
          <a:blip r:embed="rId3"/>
          <a:stretch/>
        </p:blipFill>
        <p:spPr>
          <a:xfrm>
            <a:off x="5292720" y="1400040"/>
            <a:ext cx="3282840" cy="460404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99" descr=""/>
          <p:cNvPicPr/>
          <p:nvPr/>
        </p:nvPicPr>
        <p:blipFill>
          <a:blip r:embed="rId4"/>
          <a:stretch/>
        </p:blipFill>
        <p:spPr>
          <a:xfrm>
            <a:off x="390600" y="433440"/>
            <a:ext cx="1298520" cy="163332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101" descr=""/>
          <p:cNvPicPr/>
          <p:nvPr/>
        </p:nvPicPr>
        <p:blipFill>
          <a:blip r:embed="rId5"/>
          <a:stretch/>
        </p:blipFill>
        <p:spPr>
          <a:xfrm>
            <a:off x="2604960" y="398520"/>
            <a:ext cx="4965840" cy="12985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35FA-CB6C-4D8C-BD1A-85CBF8C71B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6299-1A3A-42E9-9C36-AD1E5CCEEB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2AE9-3B76-4F0A-AFD5-C8F0D84AB8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9590-F6BA-4696-B1CE-08B7F94B5C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89" descr=""/>
          <p:cNvPicPr/>
          <p:nvPr/>
        </p:nvPicPr>
        <p:blipFill>
          <a:blip r:embed="rId3"/>
          <a:stretch/>
        </p:blipFill>
        <p:spPr>
          <a:xfrm>
            <a:off x="627120" y="1398600"/>
            <a:ext cx="2886120" cy="482292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91" descr=""/>
          <p:cNvPicPr/>
          <p:nvPr/>
        </p:nvPicPr>
        <p:blipFill>
          <a:blip r:embed="rId4"/>
          <a:stretch/>
        </p:blipFill>
        <p:spPr>
          <a:xfrm>
            <a:off x="7232760" y="4189320"/>
            <a:ext cx="1687320" cy="2041560"/>
          </a:xfrm>
          <a:prstGeom prst="rect">
            <a:avLst/>
          </a:prstGeom>
          <a:ln w="0">
            <a:noFill/>
          </a:ln>
        </p:spPr>
      </p:pic>
      <p:sp>
        <p:nvSpPr>
          <p:cNvPr id="303" name="Freeform 106"/>
          <p:cNvSpPr/>
          <p:nvPr/>
        </p:nvSpPr>
        <p:spPr>
          <a:xfrm>
            <a:off x="7777080" y="1486080"/>
            <a:ext cx="625680" cy="42192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06"/>
          <p:cNvSpPr/>
          <p:nvPr/>
        </p:nvSpPr>
        <p:spPr>
          <a:xfrm>
            <a:off x="6904080" y="741240"/>
            <a:ext cx="62532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A3B4-1717-4469-B762-AEE96FDF92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9845-2734-4873-9292-05177F3E86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98D9-AF5C-4412-841C-7E25FF81A5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A5ED-39B6-4325-AFA6-D4A491540E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QQ图片20200801083502"/>
          <p:cNvPicPr/>
          <p:nvPr/>
        </p:nvPicPr>
        <p:blipFill>
          <a:blip r:embed="rId1"/>
          <a:stretch/>
        </p:blipFill>
        <p:spPr>
          <a:xfrm>
            <a:off x="272880" y="2081160"/>
            <a:ext cx="842508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237960" y="765000"/>
            <a:ext cx="8668080" cy="599148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2808360" cy="3193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3"/>
          <a:stretch/>
        </p:blipFill>
        <p:spPr>
          <a:xfrm>
            <a:off x="826920" y="2809800"/>
            <a:ext cx="6985080" cy="3193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4"/>
          <a:stretch/>
        </p:blipFill>
        <p:spPr>
          <a:xfrm>
            <a:off x="971640" y="3154320"/>
            <a:ext cx="2808360" cy="31896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5"/>
          <a:stretch/>
        </p:blipFill>
        <p:spPr>
          <a:xfrm>
            <a:off x="1258920" y="3471840"/>
            <a:ext cx="6985080" cy="31896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6"/>
          <a:stretch/>
        </p:blipFill>
        <p:spPr>
          <a:xfrm>
            <a:off x="395280" y="3789360"/>
            <a:ext cx="7416720" cy="3189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7"/>
          <a:stretch/>
        </p:blipFill>
        <p:spPr>
          <a:xfrm>
            <a:off x="395280" y="5084640"/>
            <a:ext cx="6985080" cy="31932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8"/>
          <a:stretch/>
        </p:blipFill>
        <p:spPr>
          <a:xfrm>
            <a:off x="250920" y="5445000"/>
            <a:ext cx="6985080" cy="31932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9"/>
          <a:stretch/>
        </p:blipFill>
        <p:spPr>
          <a:xfrm>
            <a:off x="971640" y="5734080"/>
            <a:ext cx="5040360" cy="31896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10"/>
          <a:stretch/>
        </p:blipFill>
        <p:spPr>
          <a:xfrm>
            <a:off x="1476360" y="6064200"/>
            <a:ext cx="5400720" cy="31896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11"/>
          <a:stretch/>
        </p:blipFill>
        <p:spPr>
          <a:xfrm>
            <a:off x="539640" y="6396120"/>
            <a:ext cx="63374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1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6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1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6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1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6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1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6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1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6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图片 1" descr=""/>
          <p:cNvPicPr/>
          <p:nvPr/>
        </p:nvPicPr>
        <p:blipFill>
          <a:blip r:embed="rId1"/>
          <a:stretch/>
        </p:blipFill>
        <p:spPr>
          <a:xfrm>
            <a:off x="228600" y="1886040"/>
            <a:ext cx="8686800" cy="308592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2"/>
          <a:stretch/>
        </p:blipFill>
        <p:spPr>
          <a:xfrm>
            <a:off x="611280" y="2895480"/>
            <a:ext cx="7489800" cy="31932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" descr=""/>
          <p:cNvPicPr/>
          <p:nvPr/>
        </p:nvPicPr>
        <p:blipFill>
          <a:blip r:embed="rId3"/>
          <a:stretch/>
        </p:blipFill>
        <p:spPr>
          <a:xfrm>
            <a:off x="1028880" y="3213000"/>
            <a:ext cx="7864200" cy="31932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" descr=""/>
          <p:cNvPicPr/>
          <p:nvPr/>
        </p:nvPicPr>
        <p:blipFill>
          <a:blip r:embed="rId4"/>
          <a:stretch/>
        </p:blipFill>
        <p:spPr>
          <a:xfrm>
            <a:off x="1279440" y="3471840"/>
            <a:ext cx="5524560" cy="31896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" descr=""/>
          <p:cNvPicPr/>
          <p:nvPr/>
        </p:nvPicPr>
        <p:blipFill>
          <a:blip r:embed="rId5"/>
          <a:stretch/>
        </p:blipFill>
        <p:spPr>
          <a:xfrm>
            <a:off x="1042920" y="3860640"/>
            <a:ext cx="7864560" cy="31932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" descr=""/>
          <p:cNvPicPr/>
          <p:nvPr/>
        </p:nvPicPr>
        <p:blipFill>
          <a:blip r:embed="rId6"/>
          <a:stretch/>
        </p:blipFill>
        <p:spPr>
          <a:xfrm>
            <a:off x="971640" y="4149720"/>
            <a:ext cx="7864560" cy="31896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" descr=""/>
          <p:cNvPicPr/>
          <p:nvPr/>
        </p:nvPicPr>
        <p:blipFill>
          <a:blip r:embed="rId7"/>
          <a:stretch/>
        </p:blipFill>
        <p:spPr>
          <a:xfrm>
            <a:off x="539640" y="4508640"/>
            <a:ext cx="83534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3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8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3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8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3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8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9" name="图片 1" descr=""/>
          <p:cNvPicPr/>
          <p:nvPr/>
        </p:nvPicPr>
        <p:blipFill>
          <a:blip r:embed="rId1"/>
          <a:stretch/>
        </p:blipFill>
        <p:spPr>
          <a:xfrm>
            <a:off x="638280" y="1471680"/>
            <a:ext cx="7867440" cy="391464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1" descr=""/>
          <p:cNvPicPr/>
          <p:nvPr/>
        </p:nvPicPr>
        <p:blipFill>
          <a:blip r:embed="rId2"/>
          <a:stretch/>
        </p:blipFill>
        <p:spPr>
          <a:xfrm>
            <a:off x="971640" y="3443400"/>
            <a:ext cx="4248000" cy="31896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1" descr=""/>
          <p:cNvPicPr/>
          <p:nvPr/>
        </p:nvPicPr>
        <p:blipFill>
          <a:blip r:embed="rId3"/>
          <a:stretch/>
        </p:blipFill>
        <p:spPr>
          <a:xfrm>
            <a:off x="1042920" y="3759120"/>
            <a:ext cx="7274160" cy="31932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1" descr=""/>
          <p:cNvPicPr/>
          <p:nvPr/>
        </p:nvPicPr>
        <p:blipFill>
          <a:blip r:embed="rId4"/>
          <a:stretch/>
        </p:blipFill>
        <p:spPr>
          <a:xfrm>
            <a:off x="1042920" y="4076640"/>
            <a:ext cx="7274160" cy="31932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1" descr=""/>
          <p:cNvPicPr/>
          <p:nvPr/>
        </p:nvPicPr>
        <p:blipFill>
          <a:blip r:embed="rId5"/>
          <a:stretch/>
        </p:blipFill>
        <p:spPr>
          <a:xfrm>
            <a:off x="1042920" y="4437000"/>
            <a:ext cx="7274160" cy="31932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1" descr=""/>
          <p:cNvPicPr/>
          <p:nvPr/>
        </p:nvPicPr>
        <p:blipFill>
          <a:blip r:embed="rId6"/>
          <a:stretch/>
        </p:blipFill>
        <p:spPr>
          <a:xfrm>
            <a:off x="1116000" y="4724280"/>
            <a:ext cx="7273800" cy="31932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1" descr=""/>
          <p:cNvPicPr/>
          <p:nvPr/>
        </p:nvPicPr>
        <p:blipFill>
          <a:blip r:embed="rId7"/>
          <a:stretch/>
        </p:blipFill>
        <p:spPr>
          <a:xfrm>
            <a:off x="971640" y="5041800"/>
            <a:ext cx="727380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5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0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5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0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47520" y="1247760"/>
            <a:ext cx="9048960" cy="4362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6775560" y="1628640"/>
            <a:ext cx="934920" cy="3193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971640" y="2060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5796000" y="2421000"/>
            <a:ext cx="936720" cy="3189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4572000" y="2852640"/>
            <a:ext cx="936720" cy="3193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8207280" y="2852640"/>
            <a:ext cx="541440" cy="3193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7"/>
          <a:stretch/>
        </p:blipFill>
        <p:spPr>
          <a:xfrm>
            <a:off x="1692360" y="4076640"/>
            <a:ext cx="792000" cy="3193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8"/>
          <a:stretch/>
        </p:blipFill>
        <p:spPr>
          <a:xfrm>
            <a:off x="6012000" y="4508640"/>
            <a:ext cx="2520720" cy="3189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9"/>
          <a:stretch/>
        </p:blipFill>
        <p:spPr>
          <a:xfrm>
            <a:off x="1476360" y="4883040"/>
            <a:ext cx="2521080" cy="3193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0"/>
          <a:stretch/>
        </p:blipFill>
        <p:spPr>
          <a:xfrm>
            <a:off x="5796000" y="4927680"/>
            <a:ext cx="3348000" cy="3189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1"/>
          <a:stretch/>
        </p:blipFill>
        <p:spPr>
          <a:xfrm>
            <a:off x="684360" y="5300640"/>
            <a:ext cx="1800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185760" y="1576440"/>
            <a:ext cx="8772480" cy="370512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2" descr=""/>
          <p:cNvPicPr/>
          <p:nvPr/>
        </p:nvPicPr>
        <p:blipFill>
          <a:blip r:embed="rId2"/>
          <a:stretch/>
        </p:blipFill>
        <p:spPr>
          <a:xfrm>
            <a:off x="282600" y="5133960"/>
            <a:ext cx="5443560" cy="6094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6127920" y="1557360"/>
            <a:ext cx="792000" cy="3189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2556000" y="1989000"/>
            <a:ext cx="792000" cy="3193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5"/>
          <a:stretch/>
        </p:blipFill>
        <p:spPr>
          <a:xfrm>
            <a:off x="4211640" y="1989000"/>
            <a:ext cx="792000" cy="3193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6"/>
          <a:stretch/>
        </p:blipFill>
        <p:spPr>
          <a:xfrm>
            <a:off x="3067200" y="3029040"/>
            <a:ext cx="217440" cy="2156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7"/>
          <a:stretch/>
        </p:blipFill>
        <p:spPr>
          <a:xfrm>
            <a:off x="3851280" y="3544920"/>
            <a:ext cx="217440" cy="2160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8"/>
          <a:stretch/>
        </p:blipFill>
        <p:spPr>
          <a:xfrm>
            <a:off x="2828880" y="3933720"/>
            <a:ext cx="447840" cy="3193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9"/>
          <a:stretch/>
        </p:blipFill>
        <p:spPr>
          <a:xfrm>
            <a:off x="5580000" y="3933720"/>
            <a:ext cx="720720" cy="3193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10"/>
          <a:stretch/>
        </p:blipFill>
        <p:spPr>
          <a:xfrm>
            <a:off x="5551560" y="4365720"/>
            <a:ext cx="447480" cy="31896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11"/>
          <a:stretch/>
        </p:blipFill>
        <p:spPr>
          <a:xfrm>
            <a:off x="1332000" y="4782960"/>
            <a:ext cx="360360" cy="3193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12"/>
          <a:stretch/>
        </p:blipFill>
        <p:spPr>
          <a:xfrm>
            <a:off x="5724360" y="4767120"/>
            <a:ext cx="7207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图片 1" descr=""/>
          <p:cNvPicPr/>
          <p:nvPr/>
        </p:nvPicPr>
        <p:blipFill>
          <a:blip r:embed="rId1"/>
          <a:stretch/>
        </p:blipFill>
        <p:spPr>
          <a:xfrm>
            <a:off x="33480" y="2181240"/>
            <a:ext cx="9077040" cy="249552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2" descr=""/>
          <p:cNvPicPr/>
          <p:nvPr/>
        </p:nvPicPr>
        <p:blipFill>
          <a:blip r:embed="rId2"/>
          <a:stretch/>
        </p:blipFill>
        <p:spPr>
          <a:xfrm>
            <a:off x="5938920" y="1805040"/>
            <a:ext cx="3057480" cy="5904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3"/>
          <a:stretch/>
        </p:blipFill>
        <p:spPr>
          <a:xfrm>
            <a:off x="8317080" y="2565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4"/>
          <a:stretch/>
        </p:blipFill>
        <p:spPr>
          <a:xfrm>
            <a:off x="8317080" y="2997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5"/>
          <a:stretch/>
        </p:blipFill>
        <p:spPr>
          <a:xfrm>
            <a:off x="8317080" y="3429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6"/>
          <a:stretch/>
        </p:blipFill>
        <p:spPr>
          <a:xfrm>
            <a:off x="8317080" y="386064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7"/>
          <a:stretch/>
        </p:blipFill>
        <p:spPr>
          <a:xfrm>
            <a:off x="8373960" y="429264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图片 1" descr=""/>
          <p:cNvPicPr/>
          <p:nvPr/>
        </p:nvPicPr>
        <p:blipFill>
          <a:blip r:embed="rId1"/>
          <a:stretch/>
        </p:blipFill>
        <p:spPr>
          <a:xfrm>
            <a:off x="371520" y="1452600"/>
            <a:ext cx="8400960" cy="395280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2"/>
          <a:stretch/>
        </p:blipFill>
        <p:spPr>
          <a:xfrm>
            <a:off x="3564000" y="1844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3"/>
          <a:stretch/>
        </p:blipFill>
        <p:spPr>
          <a:xfrm>
            <a:off x="5219640" y="2565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4"/>
          <a:stretch/>
        </p:blipFill>
        <p:spPr>
          <a:xfrm>
            <a:off x="7667640" y="3284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5"/>
          <a:stretch/>
        </p:blipFill>
        <p:spPr>
          <a:xfrm>
            <a:off x="2556000" y="393372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6"/>
          <a:stretch/>
        </p:blipFill>
        <p:spPr>
          <a:xfrm>
            <a:off x="5940360" y="4724280"/>
            <a:ext cx="3589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图片 1" descr=""/>
          <p:cNvPicPr/>
          <p:nvPr/>
        </p:nvPicPr>
        <p:blipFill>
          <a:blip r:embed="rId1"/>
          <a:stretch/>
        </p:blipFill>
        <p:spPr>
          <a:xfrm>
            <a:off x="504720" y="1238400"/>
            <a:ext cx="8134560" cy="438120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2"/>
          <a:stretch/>
        </p:blipFill>
        <p:spPr>
          <a:xfrm>
            <a:off x="1403280" y="2665440"/>
            <a:ext cx="1728720" cy="31896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3"/>
          <a:stretch/>
        </p:blipFill>
        <p:spPr>
          <a:xfrm>
            <a:off x="1403280" y="3025800"/>
            <a:ext cx="1728720" cy="31896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4"/>
          <a:stretch/>
        </p:blipFill>
        <p:spPr>
          <a:xfrm>
            <a:off x="3924360" y="2708280"/>
            <a:ext cx="1728720" cy="31896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5"/>
          <a:stretch/>
        </p:blipFill>
        <p:spPr>
          <a:xfrm>
            <a:off x="3924360" y="3068640"/>
            <a:ext cx="1728720" cy="3189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6"/>
          <a:stretch/>
        </p:blipFill>
        <p:spPr>
          <a:xfrm>
            <a:off x="6588000" y="2637000"/>
            <a:ext cx="1729080" cy="31896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7"/>
          <a:stretch/>
        </p:blipFill>
        <p:spPr>
          <a:xfrm>
            <a:off x="6588000" y="2997360"/>
            <a:ext cx="1729080" cy="31896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8"/>
          <a:stretch/>
        </p:blipFill>
        <p:spPr>
          <a:xfrm>
            <a:off x="1476360" y="4797360"/>
            <a:ext cx="1728720" cy="31932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9"/>
          <a:stretch/>
        </p:blipFill>
        <p:spPr>
          <a:xfrm>
            <a:off x="1476360" y="5157720"/>
            <a:ext cx="1728720" cy="3193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10"/>
          <a:stretch/>
        </p:blipFill>
        <p:spPr>
          <a:xfrm>
            <a:off x="3924360" y="4797360"/>
            <a:ext cx="1871640" cy="31932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11"/>
          <a:stretch/>
        </p:blipFill>
        <p:spPr>
          <a:xfrm>
            <a:off x="3924360" y="5157720"/>
            <a:ext cx="1871640" cy="31932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12"/>
          <a:stretch/>
        </p:blipFill>
        <p:spPr>
          <a:xfrm>
            <a:off x="6516720" y="4797360"/>
            <a:ext cx="2087640" cy="31932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13"/>
          <a:stretch/>
        </p:blipFill>
        <p:spPr>
          <a:xfrm>
            <a:off x="6516720" y="5157720"/>
            <a:ext cx="208764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2" name="图片 1" descr=""/>
          <p:cNvPicPr/>
          <p:nvPr/>
        </p:nvPicPr>
        <p:blipFill>
          <a:blip r:embed="rId1"/>
          <a:stretch/>
        </p:blipFill>
        <p:spPr>
          <a:xfrm>
            <a:off x="476280" y="1338120"/>
            <a:ext cx="8191440" cy="418176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1944720" cy="31896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3"/>
          <a:stretch/>
        </p:blipFill>
        <p:spPr>
          <a:xfrm>
            <a:off x="826920" y="2492280"/>
            <a:ext cx="1944720" cy="31932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4"/>
          <a:stretch/>
        </p:blipFill>
        <p:spPr>
          <a:xfrm>
            <a:off x="826920" y="2852640"/>
            <a:ext cx="1944720" cy="31932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5"/>
          <a:stretch/>
        </p:blipFill>
        <p:spPr>
          <a:xfrm>
            <a:off x="3635280" y="2089080"/>
            <a:ext cx="2089080" cy="31932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6"/>
          <a:stretch/>
        </p:blipFill>
        <p:spPr>
          <a:xfrm>
            <a:off x="3635280" y="2448000"/>
            <a:ext cx="2089080" cy="31896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7"/>
          <a:stretch/>
        </p:blipFill>
        <p:spPr>
          <a:xfrm>
            <a:off x="3635280" y="2808360"/>
            <a:ext cx="2089080" cy="31896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8"/>
          <a:stretch/>
        </p:blipFill>
        <p:spPr>
          <a:xfrm>
            <a:off x="6588000" y="2133720"/>
            <a:ext cx="2089440" cy="31896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9"/>
          <a:stretch/>
        </p:blipFill>
        <p:spPr>
          <a:xfrm>
            <a:off x="6588000" y="2492280"/>
            <a:ext cx="2089440" cy="31932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10"/>
          <a:stretch/>
        </p:blipFill>
        <p:spPr>
          <a:xfrm>
            <a:off x="900000" y="4294080"/>
            <a:ext cx="2089440" cy="31932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11"/>
          <a:stretch/>
        </p:blipFill>
        <p:spPr>
          <a:xfrm>
            <a:off x="900000" y="4653000"/>
            <a:ext cx="2089440" cy="31896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12"/>
          <a:stretch/>
        </p:blipFill>
        <p:spPr>
          <a:xfrm>
            <a:off x="3635280" y="4292640"/>
            <a:ext cx="2232000" cy="31896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1" descr=""/>
          <p:cNvPicPr/>
          <p:nvPr/>
        </p:nvPicPr>
        <p:blipFill>
          <a:blip r:embed="rId13"/>
          <a:stretch/>
        </p:blipFill>
        <p:spPr>
          <a:xfrm>
            <a:off x="3635280" y="4651200"/>
            <a:ext cx="2089080" cy="31932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1" descr=""/>
          <p:cNvPicPr/>
          <p:nvPr/>
        </p:nvPicPr>
        <p:blipFill>
          <a:blip r:embed="rId14"/>
          <a:stretch/>
        </p:blipFill>
        <p:spPr>
          <a:xfrm>
            <a:off x="3635280" y="5011560"/>
            <a:ext cx="2089080" cy="31932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" descr=""/>
          <p:cNvPicPr/>
          <p:nvPr/>
        </p:nvPicPr>
        <p:blipFill>
          <a:blip r:embed="rId15"/>
          <a:stretch/>
        </p:blipFill>
        <p:spPr>
          <a:xfrm>
            <a:off x="6659640" y="4294080"/>
            <a:ext cx="2232000" cy="31932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16"/>
          <a:stretch/>
        </p:blipFill>
        <p:spPr>
          <a:xfrm>
            <a:off x="6659640" y="4653000"/>
            <a:ext cx="2089080" cy="3189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17"/>
          <a:stretch/>
        </p:blipFill>
        <p:spPr>
          <a:xfrm>
            <a:off x="6659640" y="5013360"/>
            <a:ext cx="20890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图片 1" descr=""/>
          <p:cNvPicPr/>
          <p:nvPr/>
        </p:nvPicPr>
        <p:blipFill>
          <a:blip r:embed="rId1"/>
          <a:stretch/>
        </p:blipFill>
        <p:spPr>
          <a:xfrm>
            <a:off x="237960" y="909720"/>
            <a:ext cx="8563320" cy="577224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2"/>
          <a:stretch/>
        </p:blipFill>
        <p:spPr>
          <a:xfrm>
            <a:off x="900000" y="2781360"/>
            <a:ext cx="2159280" cy="31896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3"/>
          <a:stretch/>
        </p:blipFill>
        <p:spPr>
          <a:xfrm>
            <a:off x="900000" y="3141720"/>
            <a:ext cx="2159280" cy="3189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4"/>
          <a:stretch/>
        </p:blipFill>
        <p:spPr>
          <a:xfrm>
            <a:off x="5796000" y="2781360"/>
            <a:ext cx="2158920" cy="31896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5"/>
          <a:stretch/>
        </p:blipFill>
        <p:spPr>
          <a:xfrm>
            <a:off x="5796000" y="3141720"/>
            <a:ext cx="2158920" cy="31896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6"/>
          <a:stretch/>
        </p:blipFill>
        <p:spPr>
          <a:xfrm>
            <a:off x="5867280" y="3429000"/>
            <a:ext cx="2159280" cy="31896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7"/>
          <a:stretch/>
        </p:blipFill>
        <p:spPr>
          <a:xfrm>
            <a:off x="942840" y="5661000"/>
            <a:ext cx="2159280" cy="31896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8"/>
          <a:stretch/>
        </p:blipFill>
        <p:spPr>
          <a:xfrm>
            <a:off x="942840" y="6021360"/>
            <a:ext cx="2159280" cy="3189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9"/>
          <a:stretch/>
        </p:blipFill>
        <p:spPr>
          <a:xfrm>
            <a:off x="1014480" y="6308640"/>
            <a:ext cx="2158920" cy="3193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10"/>
          <a:stretch/>
        </p:blipFill>
        <p:spPr>
          <a:xfrm>
            <a:off x="5796000" y="5632560"/>
            <a:ext cx="2158920" cy="3189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11"/>
          <a:stretch/>
        </p:blipFill>
        <p:spPr>
          <a:xfrm>
            <a:off x="5796000" y="5992920"/>
            <a:ext cx="2158920" cy="31896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12"/>
          <a:stretch/>
        </p:blipFill>
        <p:spPr>
          <a:xfrm>
            <a:off x="5867280" y="6280200"/>
            <a:ext cx="21592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2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7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2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7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47520" y="38160"/>
            <a:ext cx="9048960" cy="67816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5616360" cy="3193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611280" y="1441440"/>
            <a:ext cx="5616360" cy="31896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4"/>
          <a:stretch/>
        </p:blipFill>
        <p:spPr>
          <a:xfrm>
            <a:off x="611280" y="1773360"/>
            <a:ext cx="5616360" cy="31896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5"/>
          <a:stretch/>
        </p:blipFill>
        <p:spPr>
          <a:xfrm>
            <a:off x="611280" y="2133720"/>
            <a:ext cx="5616360" cy="31896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6"/>
          <a:stretch/>
        </p:blipFill>
        <p:spPr>
          <a:xfrm>
            <a:off x="468360" y="5129280"/>
            <a:ext cx="5616360" cy="31896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7"/>
          <a:stretch/>
        </p:blipFill>
        <p:spPr>
          <a:xfrm>
            <a:off x="971640" y="5445000"/>
            <a:ext cx="6913440" cy="3193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8"/>
          <a:stretch/>
        </p:blipFill>
        <p:spPr>
          <a:xfrm>
            <a:off x="971640" y="5805360"/>
            <a:ext cx="6913440" cy="3193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9"/>
          <a:stretch/>
        </p:blipFill>
        <p:spPr>
          <a:xfrm>
            <a:off x="1042920" y="6137280"/>
            <a:ext cx="6913800" cy="3189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10"/>
          <a:stretch/>
        </p:blipFill>
        <p:spPr>
          <a:xfrm>
            <a:off x="684360" y="6481800"/>
            <a:ext cx="74167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4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9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4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4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4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9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0:36:30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